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wmf" ContentType="image/x-wmf"/>
  <Override PartName="/ppt/media/image12.jpeg" ContentType="image/jpeg"/>
  <Override PartName="/ppt/media/image7.jpeg" ContentType="image/jpeg"/>
  <Override PartName="/ppt/media/image18.png" ContentType="image/png"/>
  <Override PartName="/ppt/media/image23.jpeg" ContentType="image/jpeg"/>
  <Override PartName="/ppt/media/image21.gif" ContentType="image/gif"/>
  <Override PartName="/ppt/media/image20.jpeg" ContentType="image/jpeg"/>
  <Override PartName="/ppt/media/image15.jpeg" ContentType="image/jpeg"/>
  <Override PartName="/ppt/media/image19.wmf" ContentType="image/x-wmf"/>
  <Override PartName="/ppt/media/image14.jpeg" ContentType="image/jpeg"/>
  <Override PartName="/ppt/media/image2.png" ContentType="image/png"/>
  <Override PartName="/ppt/media/image17.jpeg" ContentType="image/jpeg"/>
  <Override PartName="/ppt/media/image16.jpeg" ContentType="image/jpeg"/>
  <Override PartName="/ppt/media/image22.jpeg" ContentType="image/jpeg"/>
  <Override PartName="/ppt/media/image1.jpeg" ContentType="image/jpeg"/>
  <Override PartName="/ppt/media/image4.wmf" ContentType="image/x-wmf"/>
  <Override PartName="/ppt/media/image3.jpeg" ContentType="image/jpeg"/>
  <Override PartName="/ppt/media/image2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Text Box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dt" idx="15"/>
          </p:nvPr>
        </p:nvSpPr>
        <p:spPr>
          <a:xfrm>
            <a:off x="3884400" y="0"/>
            <a:ext cx="296532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2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Text Box 9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sldNum" idx="16"/>
          </p:nvPr>
        </p:nvSpPr>
        <p:spPr>
          <a:xfrm>
            <a:off x="388440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  <a:ea typeface="DejaVu Sans Condense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6210C0-4FE9-4EEC-9E75-98FA6B6D41D5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DejaVu Sans Condense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84A3D0-B663-40D9-9120-5AFBE3623E8B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DejaVu Sans Condense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Droid Sans"/>
            </a:endParaRPr>
          </a:p>
        </p:txBody>
      </p:sp>
      <p:sp>
        <p:nvSpPr>
          <p:cNvPr id="478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FBA505-434A-4CF1-B895-DF6107077B2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CCC650-6054-4173-99FA-D000EE966F38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DejaVu Sans Condense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Droid Sans"/>
            </a:endParaRPr>
          </a:p>
        </p:txBody>
      </p:sp>
      <p:sp>
        <p:nvSpPr>
          <p:cNvPr id="514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D5F85C-FDF6-4292-ADBA-63F4FA82215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14860E-ED90-47B5-A761-43CF379D7206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DejaVu Sans Condense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Droid Sans"/>
            </a:endParaRPr>
          </a:p>
        </p:txBody>
      </p:sp>
      <p:sp>
        <p:nvSpPr>
          <p:cNvPr id="518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EE005D-E551-4872-9DC5-C76C3E9AF12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7760DF-B08E-4692-BCBD-DDE604FCD63F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DejaVu Sans Condense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Droid Sans"/>
            </a:endParaRPr>
          </a:p>
        </p:txBody>
      </p:sp>
      <p:sp>
        <p:nvSpPr>
          <p:cNvPr id="522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DA24EF-FA53-4655-AE9B-5DBBDADB12F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064B26-B70C-46E0-9485-A136A9639D79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DejaVu Sans Condense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68760" cy="342576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116104-7299-47E6-8D5D-11324F2E2B96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DejaVu Sans Condense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Text Box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D5F0B9-6656-46C4-B937-AE4D8051316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Droid Sans"/>
              </a:rPr>
              <a:t>Я говорю «Добро пожаловать!» в дорожную академию. Туда мы отправимся со школьником. А уроки нам будет преподава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Droid Sans"/>
              </a:rPr>
              <a:t>Постовой Светофоркин. Девиз с которым мы с вами отправимся в занимательное путешестви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F65C52-E6AA-40F9-9F0D-C35389991F5D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DejaVu Sans Condense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Droid Sans"/>
            </a:endParaRPr>
          </a:p>
        </p:txBody>
      </p:sp>
      <p:sp>
        <p:nvSpPr>
          <p:cNvPr id="486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15264E-3401-4DCE-8574-93B58EFF406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4AFBDC-F6CF-45BE-9B3D-681B96D55F3B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DejaVu Sans Condense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Droid Sans"/>
            </a:endParaRPr>
          </a:p>
        </p:txBody>
      </p:sp>
      <p:sp>
        <p:nvSpPr>
          <p:cNvPr id="490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ABEA2B-1E96-47E8-A0F4-B131872E2B6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AF5897-A608-4787-940E-2A3BAEEF5A79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DejaVu Sans Condense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Droid Sans"/>
            </a:endParaRPr>
          </a:p>
        </p:txBody>
      </p:sp>
      <p:sp>
        <p:nvSpPr>
          <p:cNvPr id="494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7D3C15-8404-4CB5-9F25-B249C9CCF6B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8EBA40-A0E1-4A03-BC4F-BD1B530F8CF3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DejaVu Sans Condense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Droid Sans"/>
            </a:endParaRPr>
          </a:p>
        </p:txBody>
      </p:sp>
      <p:sp>
        <p:nvSpPr>
          <p:cNvPr id="498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FD8D9C-26C9-4F09-B4C5-33339DF2057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7F0798-E3A4-4028-95F3-F3CE375A4AF7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DejaVu Sans Condense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Droid Sans"/>
            </a:endParaRPr>
          </a:p>
        </p:txBody>
      </p:sp>
      <p:sp>
        <p:nvSpPr>
          <p:cNvPr id="502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1BDC5E-DEE6-4A35-943B-611C62E6E83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1E6D50-57DD-45F7-BF1C-74E7C9211050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DejaVu Sans Condense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Droid Sans"/>
            </a:endParaRPr>
          </a:p>
        </p:txBody>
      </p:sp>
      <p:sp>
        <p:nvSpPr>
          <p:cNvPr id="506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E43EC5-937B-4115-883A-101288F65F3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1A65D4-7953-499F-9A2C-6367558D30F9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DejaVu Sans Condense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Droid Sans"/>
            </a:endParaRPr>
          </a:p>
        </p:txBody>
      </p:sp>
      <p:sp>
        <p:nvSpPr>
          <p:cNvPr id="510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DB7B5C-7770-4C0A-BEC7-C667D9CB122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5EB6BB-0AB8-4E6D-B3AD-7609DD67E60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13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142880"/>
            <a:ext cx="74613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C0A30E-5241-428C-8560-727C0E806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076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14288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0760" y="414288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FE48BC-3EFD-4507-964E-DDA73FDA9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0080" y="160020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2600" y="160020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14288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0080" y="414288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2600" y="414288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8A01C7-1E4B-43AE-94B5-33438A5107F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B5D772-C8FC-49EE-B06E-E87EB385E15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74613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57B00E-1E1D-43B2-9AEE-0C4E06EC3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13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C09C36-C834-43E1-B61F-ACDDC0401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104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0760" y="1600200"/>
            <a:ext cx="364104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FA0B3E-EEBB-4065-94AC-C774CD68F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BB4908-B17C-4810-923A-F42AD72F1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461360" cy="52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F7EDE5-EF46-4FCB-8CC9-DA78E3D97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0760" y="1600200"/>
            <a:ext cx="364104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288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BCC52E-5092-455F-92FA-E69F50EA8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74613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8F1A5B-4FEB-4330-959D-4EC1C4252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104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076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0760" y="414288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9EDB8C-7B0B-400E-AED9-BFA4B3249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076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142880"/>
            <a:ext cx="74613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D8EA4B-544C-4314-A17C-F16FEEEB8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13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142880"/>
            <a:ext cx="74613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F4E82C-2A28-4F6D-8DCC-CBC17F423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076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14288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0760" y="414288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34D13C-5CFA-4E5C-93CB-E06613D43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0080" y="160020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2600" y="160020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14288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0080" y="414288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2600" y="414288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03C686-720B-4745-B5AA-7F36D3F6566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9C958-EB24-47CB-9EE3-DB8608B247B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74613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D3226-61A9-4E16-A14A-838EC0ADD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13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D96FB-0356-438B-9411-4E9476827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104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0760" y="1600200"/>
            <a:ext cx="364104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4E6B0-04D3-4C96-BFAC-D6F537064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BE4B9-DA7A-4BE2-A775-65C7A630F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13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69D951-84EE-4DA2-AA91-8063165B7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461360" cy="52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59A16-9DBD-429F-B1F4-F3C23DC26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0760" y="1600200"/>
            <a:ext cx="364104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414288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B02FA-9282-4264-91A3-E5F5745C8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104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076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0760" y="414288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BB4AB-C816-4658-ABA3-3E9F797D6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076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4142880"/>
            <a:ext cx="74613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A5457-CF75-458A-859B-C552A44C3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13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4142880"/>
            <a:ext cx="74613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2ADD8-C4D4-4A67-968F-173D43AD1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076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414288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0760" y="414288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C85A3-662D-4A20-B622-F2F87289C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0080" y="160020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2600" y="160020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414288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0080" y="414288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2600" y="414288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F0F81-5DA4-4290-B7F9-EB7C5A224C5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F587C61-30BA-4510-B670-A0AFAEAA8A3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74613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9EC1A23-A404-428A-82C5-C09917AB8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13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968FCE5-9C63-4090-A756-FEB88971A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104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0760" y="1600200"/>
            <a:ext cx="364104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2C93BE-F203-4349-B375-102EC88AC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104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0760" y="1600200"/>
            <a:ext cx="364104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4FC3E1-2BC3-488C-8871-CD2CFEC07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5B70CB3-95D6-45B1-870B-92D1E0B83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461360" cy="52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18B6D1E-F426-4F05-BD52-B42B357D6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0760" y="1600200"/>
            <a:ext cx="364104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414288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DCF687B-4173-4974-8065-17997C452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104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076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0760" y="414288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1E898E4-727A-4C6E-990C-B491D53CA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076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4142880"/>
            <a:ext cx="74613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5FD1B7D-D66B-4316-9D75-93144D59F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13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7200" y="4142880"/>
            <a:ext cx="74613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BB81CC4-9B28-4967-BD7D-756EAB63C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076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4288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0760" y="414288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CB89342-8B4B-43A6-9C16-92EBA8662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0080" y="160020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2600" y="160020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7200" y="414288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0080" y="414288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2600" y="414288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6B72733-53E3-4875-A59E-D695405C686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4EDC92D-1342-4DE3-B248-404339349EC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0C52D5-9BFE-415B-9993-FD76E17A8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74613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A785D83-DA65-42B3-94E1-DA6F70C52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13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F1C3117-41B0-4EBF-B3F9-D23A3171C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104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0760" y="1600200"/>
            <a:ext cx="364104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CCEE64B-B629-4C3E-88F2-6E8386C0A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C1D29A9-4DB9-4212-B013-4C6A740DF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461360" cy="52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346705B-433C-46B4-A7F7-7B2404A44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0760" y="1600200"/>
            <a:ext cx="364104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414288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8282C9D-B556-42CA-9FFD-B32F9238D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104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076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0760" y="414288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B50ABCC-EC77-497F-B88B-1697FAEC8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076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142880"/>
            <a:ext cx="74613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A95F443-3124-4E63-BCE6-EF7BF93B0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13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4142880"/>
            <a:ext cx="74613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3CEADF2-21B6-4621-AC2A-B9632D880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076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414288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0760" y="414288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7284B4F-6664-4C1A-BF63-FFD6420E0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461360" cy="52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52ECF1-276E-4FD0-A3F0-60227F806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0080" y="160020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2600" y="160020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414288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0080" y="414288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2600" y="414288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F92F516-0226-4674-84F9-62B115BDEC4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13C5C4-49D9-495B-BF16-B301BFF59CB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74613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883132-CFF5-4CAB-AEDC-E51B97190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13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28E0F1-D2B8-4DDE-8077-1230B75D0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104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0760" y="1600200"/>
            <a:ext cx="364104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D432D5-1761-40BE-BBF4-917BA050D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25950E-5205-41C4-B7C7-644E34016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461360" cy="52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62E9AF-A4AD-4ABE-AD69-82A64CC0C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0760" y="1600200"/>
            <a:ext cx="364104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14288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371706-8854-46FD-8C96-129B14D37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104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076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0760" y="414288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ABA80E-E5C9-4B82-BD6B-68E5A603C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076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142880"/>
            <a:ext cx="74613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180D84-9328-4362-B521-C65D650E1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0760" y="1600200"/>
            <a:ext cx="364104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14288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EB5136-0D85-40AF-BC6F-7A1A6CFFA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13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4142880"/>
            <a:ext cx="74613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9C9E8F-BBCB-4B92-A18A-7557668E2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076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14288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0760" y="414288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67667E-F5B6-4812-89E2-CD1AFAE97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0080" y="160020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2600" y="160020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414288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0080" y="414288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2600" y="414288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01C851-96B3-49AC-B9DD-E7193E907A3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B9149A9-0A36-47D9-A44C-5248E0071A3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74613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1F5AF0E-C2B1-4753-9B9B-EBBFEF7E1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13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13659DC-112A-4D38-914F-18090E70B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104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0760" y="1600200"/>
            <a:ext cx="364104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D8149C8-E95E-40C9-A921-9EE76ABAC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AEDFEC9-FB57-46B3-9ABE-9D02362DB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461360" cy="52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DBB730C-648B-418F-88FC-7FE21CD0A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0760" y="1600200"/>
            <a:ext cx="364104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414288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5AD46DB-2B7F-4EAD-9E43-DFF3CF5AB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104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076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0760" y="414288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6FA8C0-A62D-4C83-B5CA-8486B0367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104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076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0760" y="414288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D63A2B2-DDB3-4D5F-9CF9-DBBBDF670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076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4142880"/>
            <a:ext cx="74613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7DA4671-7CDB-4B22-8A51-7D7B9823E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13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7200" y="4142880"/>
            <a:ext cx="74613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837A0EB-2D1B-4431-9B25-A9B691042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076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414288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0760" y="414288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22C253B-2A8C-4EB2-83F5-BC65912F8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0080" y="160020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2600" y="160020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7200" y="414288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0080" y="414288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2600" y="414288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E4EEDCD-4548-4883-9121-4124E82D4DE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076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142880"/>
            <a:ext cx="74613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C0EFE8-27CB-4506-B58A-2DEFA5DC0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1"/>
          <p:cNvSpPr/>
          <p:nvPr/>
        </p:nvSpPr>
        <p:spPr>
          <a:xfrm>
            <a:off x="8763120" y="0"/>
            <a:ext cx="144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74613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8786520" y="268200"/>
            <a:ext cx="2004840" cy="3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vert="eaVer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 rot="5400000">
            <a:off x="6995520" y="373536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Line 6"/>
          <p:cNvSpPr/>
          <p:nvPr/>
        </p:nvSpPr>
        <p:spPr>
          <a:xfrm>
            <a:off x="76320" y="0"/>
            <a:ext cx="144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Line 7"/>
          <p:cNvSpPr/>
          <p:nvPr/>
        </p:nvSpPr>
        <p:spPr>
          <a:xfrm>
            <a:off x="8991720" y="0"/>
            <a:ext cx="144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Rectangle 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Line 9"/>
          <p:cNvSpPr/>
          <p:nvPr/>
        </p:nvSpPr>
        <p:spPr>
          <a:xfrm>
            <a:off x="8915400" y="0"/>
            <a:ext cx="144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Oval 1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2"/>
          </p:nvPr>
        </p:nvSpPr>
        <p:spPr>
          <a:xfrm>
            <a:off x="8129520" y="5733720"/>
            <a:ext cx="60336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D49565-0899-48D5-A84B-3C342AF374CE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Rectangle 2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Line 5"/>
          <p:cNvSpPr/>
          <p:nvPr/>
        </p:nvSpPr>
        <p:spPr>
          <a:xfrm>
            <a:off x="106200" y="0"/>
            <a:ext cx="180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Line 6"/>
          <p:cNvSpPr/>
          <p:nvPr/>
        </p:nvSpPr>
        <p:spPr>
          <a:xfrm>
            <a:off x="914400" y="0"/>
            <a:ext cx="1440" cy="6858000"/>
          </a:xfrm>
          <a:prstGeom prst="line">
            <a:avLst/>
          </a:prstGeom>
          <a:ln w="57240">
            <a:solidFill>
              <a:srgbClr val="ffe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Line 7"/>
          <p:cNvSpPr/>
          <p:nvPr/>
        </p:nvSpPr>
        <p:spPr>
          <a:xfrm>
            <a:off x="853920" y="0"/>
            <a:ext cx="180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Line 8"/>
          <p:cNvSpPr/>
          <p:nvPr/>
        </p:nvSpPr>
        <p:spPr>
          <a:xfrm>
            <a:off x="1727280" y="0"/>
            <a:ext cx="1440" cy="6858000"/>
          </a:xfrm>
          <a:prstGeom prst="line">
            <a:avLst/>
          </a:prstGeom>
          <a:ln w="284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Line 9"/>
          <p:cNvSpPr/>
          <p:nvPr/>
        </p:nvSpPr>
        <p:spPr>
          <a:xfrm>
            <a:off x="1066680" y="0"/>
            <a:ext cx="180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10"/>
          <p:cNvSpPr/>
          <p:nvPr/>
        </p:nvSpPr>
        <p:spPr>
          <a:xfrm>
            <a:off x="9113760" y="0"/>
            <a:ext cx="180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Rectangle 11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Oval 12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Oval 13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Oval 14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Oval 15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Oval 16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74613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3"/>
          </p:nvPr>
        </p:nvSpPr>
        <p:spPr>
          <a:xfrm>
            <a:off x="9097920" y="221760"/>
            <a:ext cx="2279520" cy="3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vert="eaVer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Text Box 20"/>
          <p:cNvSpPr/>
          <p:nvPr/>
        </p:nvSpPr>
        <p:spPr>
          <a:xfrm rot="5400000">
            <a:off x="708300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4"/>
          </p:nvPr>
        </p:nvSpPr>
        <p:spPr>
          <a:xfrm>
            <a:off x="1325520" y="4929120"/>
            <a:ext cx="60336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  <a:ea typeface="DejaVu Sans Condense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FB5D2C2-D8EC-4753-8DE7-08C711857C5A}" type="slidenum">
              <a:rPr b="1" lang="ru-RU" sz="1400" spc="-1" strike="noStrike">
                <a:solidFill>
                  <a:srgbClr val="ffffff"/>
                </a:solidFill>
                <a:latin typeface="Century Schoolbook"/>
                <a:ea typeface="DejaVu Sans Condense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Line 1"/>
          <p:cNvSpPr/>
          <p:nvPr/>
        </p:nvSpPr>
        <p:spPr>
          <a:xfrm>
            <a:off x="8763120" y="0"/>
            <a:ext cx="144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Line 2"/>
          <p:cNvSpPr/>
          <p:nvPr/>
        </p:nvSpPr>
        <p:spPr>
          <a:xfrm>
            <a:off x="76320" y="0"/>
            <a:ext cx="144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Line 3"/>
          <p:cNvSpPr/>
          <p:nvPr/>
        </p:nvSpPr>
        <p:spPr>
          <a:xfrm>
            <a:off x="8991720" y="0"/>
            <a:ext cx="144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5"/>
          <p:cNvSpPr/>
          <p:nvPr/>
        </p:nvSpPr>
        <p:spPr>
          <a:xfrm>
            <a:off x="8915400" y="0"/>
            <a:ext cx="144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Oval 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74613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5"/>
          </p:nvPr>
        </p:nvSpPr>
        <p:spPr>
          <a:xfrm>
            <a:off x="8786520" y="268200"/>
            <a:ext cx="2004840" cy="3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vert="eaVer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6"/>
          </p:nvPr>
        </p:nvSpPr>
        <p:spPr>
          <a:xfrm>
            <a:off x="8129520" y="5733720"/>
            <a:ext cx="60336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  <a:ea typeface="DejaVu Sans Condense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FF35DAF-83D3-45A0-84DC-E9FDE67B4C83}" type="slidenum">
              <a:rPr b="1" lang="ru-RU" sz="1400" spc="-1" strike="noStrike">
                <a:solidFill>
                  <a:srgbClr val="ffffff"/>
                </a:solidFill>
                <a:latin typeface="Century Schoolbook"/>
                <a:ea typeface="DejaVu Sans Condense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11"/>
          <p:cNvSpPr/>
          <p:nvPr/>
        </p:nvSpPr>
        <p:spPr>
          <a:xfrm rot="5400000">
            <a:off x="699624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Rectangle 2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Rectangle 3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Rectangle 4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Line 5"/>
          <p:cNvSpPr/>
          <p:nvPr/>
        </p:nvSpPr>
        <p:spPr>
          <a:xfrm>
            <a:off x="106200" y="0"/>
            <a:ext cx="180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Line 6"/>
          <p:cNvSpPr/>
          <p:nvPr/>
        </p:nvSpPr>
        <p:spPr>
          <a:xfrm>
            <a:off x="914400" y="0"/>
            <a:ext cx="1440" cy="6858000"/>
          </a:xfrm>
          <a:prstGeom prst="line">
            <a:avLst/>
          </a:prstGeom>
          <a:ln w="57240">
            <a:solidFill>
              <a:srgbClr val="ffe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Line 7"/>
          <p:cNvSpPr/>
          <p:nvPr/>
        </p:nvSpPr>
        <p:spPr>
          <a:xfrm>
            <a:off x="853920" y="0"/>
            <a:ext cx="180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Line 8"/>
          <p:cNvSpPr/>
          <p:nvPr/>
        </p:nvSpPr>
        <p:spPr>
          <a:xfrm>
            <a:off x="1727280" y="0"/>
            <a:ext cx="1440" cy="6858000"/>
          </a:xfrm>
          <a:prstGeom prst="line">
            <a:avLst/>
          </a:prstGeom>
          <a:ln w="284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066680" y="0"/>
            <a:ext cx="180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Rectangle 10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Oval 11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Oval 12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Oval 13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Oval 14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Oval 15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Line 16"/>
          <p:cNvSpPr/>
          <p:nvPr/>
        </p:nvSpPr>
        <p:spPr>
          <a:xfrm>
            <a:off x="9097920" y="0"/>
            <a:ext cx="180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74613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7"/>
          </p:nvPr>
        </p:nvSpPr>
        <p:spPr>
          <a:xfrm>
            <a:off x="9096480" y="217080"/>
            <a:ext cx="2279520" cy="3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vert="eaVer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Text Box 20"/>
          <p:cNvSpPr/>
          <p:nvPr/>
        </p:nvSpPr>
        <p:spPr>
          <a:xfrm rot="5400000">
            <a:off x="708300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sldNum" idx="8"/>
          </p:nvPr>
        </p:nvSpPr>
        <p:spPr>
          <a:xfrm>
            <a:off x="1339920" y="4929120"/>
            <a:ext cx="60336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  <a:ea typeface="DejaVu Sans Condense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0579EBA-780F-424A-983F-1F7612DF0621}" type="slidenum">
              <a:rPr b="1" lang="ru-RU" sz="1400" spc="-1" strike="noStrike">
                <a:solidFill>
                  <a:srgbClr val="ffffff"/>
                </a:solidFill>
                <a:latin typeface="Century Schoolbook"/>
                <a:ea typeface="DejaVu Sans Condense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Line 1"/>
          <p:cNvSpPr/>
          <p:nvPr/>
        </p:nvSpPr>
        <p:spPr>
          <a:xfrm>
            <a:off x="8763120" y="0"/>
            <a:ext cx="144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Line 2"/>
          <p:cNvSpPr/>
          <p:nvPr/>
        </p:nvSpPr>
        <p:spPr>
          <a:xfrm>
            <a:off x="76320" y="0"/>
            <a:ext cx="144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Line 3"/>
          <p:cNvSpPr/>
          <p:nvPr/>
        </p:nvSpPr>
        <p:spPr>
          <a:xfrm>
            <a:off x="8991720" y="0"/>
            <a:ext cx="144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Rectangle 4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Line 5"/>
          <p:cNvSpPr/>
          <p:nvPr/>
        </p:nvSpPr>
        <p:spPr>
          <a:xfrm>
            <a:off x="8915400" y="0"/>
            <a:ext cx="144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Oval 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74613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9"/>
          </p:nvPr>
        </p:nvSpPr>
        <p:spPr>
          <a:xfrm>
            <a:off x="8786520" y="268200"/>
            <a:ext cx="2004840" cy="3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vert="eaVer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0"/>
          </p:nvPr>
        </p:nvSpPr>
        <p:spPr>
          <a:xfrm>
            <a:off x="8129520" y="5733720"/>
            <a:ext cx="60336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  <a:ea typeface="DejaVu Sans Condense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4DF5D70-B5BF-473E-98FD-7FBDA9BB6C17}" type="slidenum">
              <a:rPr b="1" lang="ru-RU" sz="1400" spc="-1" strike="noStrike">
                <a:solidFill>
                  <a:srgbClr val="ffffff"/>
                </a:solidFill>
                <a:latin typeface="Century Schoolbook"/>
                <a:ea typeface="DejaVu Sans Condense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11"/>
          <p:cNvSpPr/>
          <p:nvPr/>
        </p:nvSpPr>
        <p:spPr>
          <a:xfrm rot="5400000">
            <a:off x="699624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Line 1"/>
          <p:cNvSpPr/>
          <p:nvPr/>
        </p:nvSpPr>
        <p:spPr>
          <a:xfrm>
            <a:off x="8763120" y="0"/>
            <a:ext cx="144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Line 2"/>
          <p:cNvSpPr/>
          <p:nvPr/>
        </p:nvSpPr>
        <p:spPr>
          <a:xfrm>
            <a:off x="6248520" y="0"/>
            <a:ext cx="144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Line 3"/>
          <p:cNvSpPr/>
          <p:nvPr/>
        </p:nvSpPr>
        <p:spPr>
          <a:xfrm>
            <a:off x="6192720" y="0"/>
            <a:ext cx="180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Line 4"/>
          <p:cNvSpPr/>
          <p:nvPr/>
        </p:nvSpPr>
        <p:spPr>
          <a:xfrm>
            <a:off x="8991720" y="0"/>
            <a:ext cx="144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Rectangle 5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Line 6"/>
          <p:cNvSpPr/>
          <p:nvPr/>
        </p:nvSpPr>
        <p:spPr>
          <a:xfrm>
            <a:off x="8915400" y="0"/>
            <a:ext cx="144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Oval 7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74613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1"/>
          </p:nvPr>
        </p:nvSpPr>
        <p:spPr>
          <a:xfrm>
            <a:off x="8786520" y="268200"/>
            <a:ext cx="2004840" cy="3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vert="eaVer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2"/>
          </p:nvPr>
        </p:nvSpPr>
        <p:spPr>
          <a:xfrm>
            <a:off x="8129520" y="5733720"/>
            <a:ext cx="60336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  <a:ea typeface="DejaVu Sans Condense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5FBF991-8707-47D5-9887-2F21F84F29B4}" type="slidenum">
              <a:rPr b="1" lang="ru-RU" sz="1400" spc="-1" strike="noStrike">
                <a:solidFill>
                  <a:srgbClr val="ffffff"/>
                </a:solidFill>
                <a:latin typeface="Century Schoolbook"/>
                <a:ea typeface="DejaVu Sans Condense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Text Box 12"/>
          <p:cNvSpPr/>
          <p:nvPr/>
        </p:nvSpPr>
        <p:spPr>
          <a:xfrm rot="5400000">
            <a:off x="699624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Line 1"/>
          <p:cNvSpPr/>
          <p:nvPr/>
        </p:nvSpPr>
        <p:spPr>
          <a:xfrm>
            <a:off x="8763120" y="0"/>
            <a:ext cx="144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Oval 2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Line 3"/>
          <p:cNvSpPr/>
          <p:nvPr/>
        </p:nvSpPr>
        <p:spPr>
          <a:xfrm>
            <a:off x="8991720" y="0"/>
            <a:ext cx="144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Rectangle 4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Line 5"/>
          <p:cNvSpPr/>
          <p:nvPr/>
        </p:nvSpPr>
        <p:spPr>
          <a:xfrm>
            <a:off x="8915400" y="0"/>
            <a:ext cx="144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Line 6"/>
          <p:cNvSpPr/>
          <p:nvPr/>
        </p:nvSpPr>
        <p:spPr>
          <a:xfrm>
            <a:off x="6248520" y="0"/>
            <a:ext cx="144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Line 7"/>
          <p:cNvSpPr/>
          <p:nvPr/>
        </p:nvSpPr>
        <p:spPr>
          <a:xfrm>
            <a:off x="6192720" y="0"/>
            <a:ext cx="180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74613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3"/>
          </p:nvPr>
        </p:nvSpPr>
        <p:spPr>
          <a:xfrm>
            <a:off x="8786520" y="268200"/>
            <a:ext cx="2004840" cy="3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vert="eaVer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3720"/>
            <a:ext cx="60336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  <a:ea typeface="DejaVu Sans Condense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6D821F3-8453-42EC-96BB-D9A71A050ACD}" type="slidenum">
              <a:rPr b="1" lang="ru-RU" sz="1400" spc="-1" strike="noStrike">
                <a:solidFill>
                  <a:srgbClr val="ffffff"/>
                </a:solidFill>
                <a:latin typeface="Century Schoolbook"/>
                <a:ea typeface="DejaVu Sans Condense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Text Box 12"/>
          <p:cNvSpPr/>
          <p:nvPr/>
        </p:nvSpPr>
        <p:spPr>
          <a:xfrm rot="5400000">
            <a:off x="699624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baby.ru/community/view/30500/forum/post/36932489/" TargetMode="External"/><Relationship Id="rId2" Type="http://schemas.openxmlformats.org/officeDocument/2006/relationships/hyperlink" Target="http://nattik.ru/" TargetMode="External"/><Relationship Id="rId3" Type="http://schemas.openxmlformats.org/officeDocument/2006/relationships/hyperlink" Target="http://mars36.ru/archives/415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1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image" Target="../media/image13.jpeg"/><Relationship Id="rId9" Type="http://schemas.openxmlformats.org/officeDocument/2006/relationships/image" Target="../media/image14.jpeg"/><Relationship Id="rId10" Type="http://schemas.openxmlformats.org/officeDocument/2006/relationships/image" Target="../media/image15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37.xml"/><Relationship Id="rId1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Text Box 1"/>
          <p:cNvSpPr/>
          <p:nvPr/>
        </p:nvSpPr>
        <p:spPr>
          <a:xfrm>
            <a:off x="2571840" y="3429000"/>
            <a:ext cx="6172200" cy="1785960"/>
          </a:xfrm>
          <a:prstGeom prst="rect">
            <a:avLst/>
          </a:prstGeom>
          <a:solidFill>
            <a:srgbClr val="fe863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Century Schoolbook"/>
              </a:rPr>
              <a:t>ОСТОРОЖНО, УЛИЦА!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3" name="Picture 2" descr=""/>
          <p:cNvPicPr/>
          <p:nvPr/>
        </p:nvPicPr>
        <p:blipFill>
          <a:blip r:embed="rId1"/>
          <a:stretch/>
        </p:blipFill>
        <p:spPr>
          <a:xfrm>
            <a:off x="3924360" y="276120"/>
            <a:ext cx="2928960" cy="2928960"/>
          </a:xfrm>
          <a:prstGeom prst="rect">
            <a:avLst/>
          </a:prstGeom>
          <a:ln w="9360">
            <a:solidFill>
              <a:srgbClr val="fe8637"/>
            </a:solidFill>
            <a:miter/>
          </a:ln>
        </p:spPr>
      </p:pic>
      <p:sp>
        <p:nvSpPr>
          <p:cNvPr id="364" name="PlaceHolder 1"/>
          <p:cNvSpPr>
            <a:spLocks noGrp="1"/>
          </p:cNvSpPr>
          <p:nvPr>
            <p:ph type="subTitle"/>
          </p:nvPr>
        </p:nvSpPr>
        <p:spPr>
          <a:xfrm>
            <a:off x="5111640" y="5616720"/>
            <a:ext cx="3384720" cy="85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398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Arial"/>
              </a:rPr>
              <a:t>Дерендеева Ирина Михайловна</a:t>
            </a:r>
            <a:endParaRPr b="0" lang="en-US" sz="1500" spc="-1" strike="noStrike">
              <a:solidFill>
                <a:srgbClr val="ffffff"/>
              </a:solidFill>
              <a:latin typeface="Century Schoolbook"/>
            </a:endParaRPr>
          </a:p>
          <a:p>
            <a:pPr marL="343080" indent="-3398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Arial"/>
              </a:rPr>
              <a:t>д\сад «Ручеек»</a:t>
            </a:r>
            <a:endParaRPr b="0" lang="en-US" sz="15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Text Box 1"/>
          <p:cNvSpPr/>
          <p:nvPr/>
        </p:nvSpPr>
        <p:spPr>
          <a:xfrm>
            <a:off x="2357280" y="4286160"/>
            <a:ext cx="6172200" cy="1859040"/>
          </a:xfrm>
          <a:prstGeom prst="rect">
            <a:avLst/>
          </a:prstGeom>
          <a:noFill/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700" spc="-1" strike="noStrike">
                <a:solidFill>
                  <a:srgbClr val="fff39d"/>
                </a:solidFill>
                <a:latin typeface="Century Schoolbook"/>
              </a:rPr>
              <a:t>И у светофора можно встретить опасность!!!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0" name="Picture 2" descr=""/>
          <p:cNvPicPr/>
          <p:nvPr/>
        </p:nvPicPr>
        <p:blipFill>
          <a:blip r:embed="rId1"/>
          <a:stretch/>
        </p:blipFill>
        <p:spPr>
          <a:xfrm>
            <a:off x="2357280" y="285840"/>
            <a:ext cx="6000840" cy="3840120"/>
          </a:xfrm>
          <a:prstGeom prst="rect">
            <a:avLst/>
          </a:prstGeom>
          <a:ln w="9360">
            <a:solidFill>
              <a:srgbClr val="fe8637"/>
            </a:solidFill>
            <a:miter/>
          </a:ln>
        </p:spPr>
      </p:pic>
      <p:sp>
        <p:nvSpPr>
          <p:cNvPr id="461" name="Rectangle 3"/>
          <p:cNvSpPr/>
          <p:nvPr/>
        </p:nvSpPr>
        <p:spPr>
          <a:xfrm>
            <a:off x="357120" y="5786280"/>
            <a:ext cx="6000840" cy="764640"/>
          </a:xfrm>
          <a:prstGeom prst="rect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Если погас зеленый сигнал для пешехода – нужно 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остановиться</a:t>
            </a: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WordArt 1"/>
          <p:cNvSpPr txBox="1"/>
          <p:nvPr/>
        </p:nvSpPr>
        <p:spPr>
          <a:xfrm>
            <a:off x="2556000" y="1989000"/>
            <a:ext cx="4440240" cy="185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144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7598d9"/>
                  </a:solidFill>
                  <a:miter/>
                </a:ln>
                <a:solidFill>
                  <a:srgbClr val="ff3300"/>
                </a:solidFill>
                <a:latin typeface="Times New Roman"/>
              </a:rPr>
              <a:t>Детям знать положено</a:t>
            </a:r>
            <a:endParaRPr b="0" lang="en-US" sz="1800" spc="1" strike="noStrike">
              <a:ln w="9360">
                <a:solidFill>
                  <a:srgbClr val="7598d9"/>
                </a:solidFill>
                <a:miter/>
              </a:ln>
              <a:solidFill>
                <a:srgbClr val="ff33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7598d9"/>
                  </a:solidFill>
                  <a:miter/>
                </a:ln>
                <a:solidFill>
                  <a:srgbClr val="ff3300"/>
                </a:solidFill>
                <a:latin typeface="Times New Roman"/>
              </a:rPr>
              <a:t>Правила дорожные!</a:t>
            </a:r>
            <a:endParaRPr b="0" lang="en-US" sz="1800" spc="1" strike="noStrike">
              <a:ln w="9360">
                <a:solidFill>
                  <a:srgbClr val="7598d9"/>
                </a:solidFill>
                <a:miter/>
              </a:ln>
              <a:solidFill>
                <a:srgbClr val="ff33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7598d9"/>
                  </a:solidFill>
                  <a:miter/>
                </a:ln>
                <a:solidFill>
                  <a:srgbClr val="ff3300"/>
                </a:solidFill>
                <a:latin typeface="Times New Roman"/>
              </a:rPr>
              <a:t>Ты, дружок, доверься им:</a:t>
            </a:r>
            <a:endParaRPr b="0" lang="en-US" sz="1800" spc="1" strike="noStrike">
              <a:ln w="9360">
                <a:solidFill>
                  <a:srgbClr val="7598d9"/>
                </a:solidFill>
                <a:miter/>
              </a:ln>
              <a:solidFill>
                <a:srgbClr val="ff33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7598d9"/>
                  </a:solidFill>
                  <a:miter/>
                </a:ln>
                <a:solidFill>
                  <a:srgbClr val="ff3300"/>
                </a:solidFill>
                <a:latin typeface="Times New Roman"/>
              </a:rPr>
              <a:t>Будешь цел и невредим!</a:t>
            </a:r>
            <a:endParaRPr b="0" lang="en-US" sz="1800" spc="1" strike="noStrike">
              <a:ln w="9360">
                <a:solidFill>
                  <a:srgbClr val="7598d9"/>
                </a:solidFill>
                <a:miter/>
              </a:ln>
              <a:solidFill>
                <a:srgbClr val="ff3300"/>
              </a:solidFill>
              <a:latin typeface="Times New Roman"/>
              <a:ea typeface="Times New Roman"/>
            </a:endParaRPr>
          </a:p>
        </p:txBody>
      </p:sp>
      <p:sp>
        <p:nvSpPr>
          <p:cNvPr id="463" name="AutoShape 2"/>
          <p:cNvSpPr/>
          <p:nvPr/>
        </p:nvSpPr>
        <p:spPr>
          <a:xfrm>
            <a:off x="228600" y="4876920"/>
            <a:ext cx="8705880" cy="914400"/>
          </a:xfrm>
          <a:custGeom>
            <a:avLst/>
            <a:gdLst>
              <a:gd name="textAreaLeft" fmla="*/ 0 w 8705880"/>
              <a:gd name="textAreaRight" fmla="*/ 8706240 w 870588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5484" h="576">
                <a:moveTo>
                  <a:pt x="5484" y="501"/>
                </a:moveTo>
                <a:lnTo>
                  <a:pt x="5277" y="280"/>
                </a:lnTo>
                <a:lnTo>
                  <a:pt x="5146" y="247"/>
                </a:lnTo>
                <a:lnTo>
                  <a:pt x="5000" y="209"/>
                </a:lnTo>
                <a:lnTo>
                  <a:pt x="4837" y="170"/>
                </a:lnTo>
                <a:lnTo>
                  <a:pt x="4664" y="128"/>
                </a:lnTo>
                <a:lnTo>
                  <a:pt x="4484" y="89"/>
                </a:lnTo>
                <a:lnTo>
                  <a:pt x="4295" y="55"/>
                </a:lnTo>
                <a:lnTo>
                  <a:pt x="4105" y="28"/>
                </a:lnTo>
                <a:lnTo>
                  <a:pt x="3914" y="8"/>
                </a:lnTo>
                <a:lnTo>
                  <a:pt x="3731" y="0"/>
                </a:lnTo>
                <a:lnTo>
                  <a:pt x="3549" y="8"/>
                </a:lnTo>
                <a:lnTo>
                  <a:pt x="3376" y="28"/>
                </a:lnTo>
                <a:lnTo>
                  <a:pt x="3214" y="69"/>
                </a:lnTo>
                <a:lnTo>
                  <a:pt x="3070" y="128"/>
                </a:lnTo>
                <a:lnTo>
                  <a:pt x="2938" y="211"/>
                </a:lnTo>
                <a:lnTo>
                  <a:pt x="2829" y="322"/>
                </a:lnTo>
                <a:lnTo>
                  <a:pt x="2743" y="460"/>
                </a:lnTo>
                <a:lnTo>
                  <a:pt x="2665" y="322"/>
                </a:lnTo>
                <a:lnTo>
                  <a:pt x="2558" y="217"/>
                </a:lnTo>
                <a:lnTo>
                  <a:pt x="2430" y="132"/>
                </a:lnTo>
                <a:lnTo>
                  <a:pt x="2287" y="73"/>
                </a:lnTo>
                <a:lnTo>
                  <a:pt x="2127" y="36"/>
                </a:lnTo>
                <a:lnTo>
                  <a:pt x="1954" y="12"/>
                </a:lnTo>
                <a:lnTo>
                  <a:pt x="1770" y="8"/>
                </a:lnTo>
                <a:lnTo>
                  <a:pt x="1583" y="12"/>
                </a:lnTo>
                <a:lnTo>
                  <a:pt x="1390" y="34"/>
                </a:lnTo>
                <a:lnTo>
                  <a:pt x="1203" y="59"/>
                </a:lnTo>
                <a:lnTo>
                  <a:pt x="1010" y="93"/>
                </a:lnTo>
                <a:lnTo>
                  <a:pt x="828" y="132"/>
                </a:lnTo>
                <a:lnTo>
                  <a:pt x="651" y="170"/>
                </a:lnTo>
                <a:lnTo>
                  <a:pt x="488" y="211"/>
                </a:lnTo>
                <a:lnTo>
                  <a:pt x="339" y="247"/>
                </a:lnTo>
                <a:lnTo>
                  <a:pt x="208" y="280"/>
                </a:lnTo>
                <a:lnTo>
                  <a:pt x="0" y="501"/>
                </a:lnTo>
                <a:lnTo>
                  <a:pt x="26" y="501"/>
                </a:lnTo>
                <a:lnTo>
                  <a:pt x="102" y="499"/>
                </a:lnTo>
                <a:lnTo>
                  <a:pt x="217" y="497"/>
                </a:lnTo>
                <a:lnTo>
                  <a:pt x="364" y="491"/>
                </a:lnTo>
                <a:lnTo>
                  <a:pt x="544" y="487"/>
                </a:lnTo>
                <a:lnTo>
                  <a:pt x="742" y="482"/>
                </a:lnTo>
                <a:lnTo>
                  <a:pt x="955" y="478"/>
                </a:lnTo>
                <a:lnTo>
                  <a:pt x="1173" y="470"/>
                </a:lnTo>
                <a:lnTo>
                  <a:pt x="1394" y="464"/>
                </a:lnTo>
                <a:lnTo>
                  <a:pt x="1608" y="460"/>
                </a:lnTo>
                <a:lnTo>
                  <a:pt x="1812" y="450"/>
                </a:lnTo>
                <a:lnTo>
                  <a:pt x="1994" y="446"/>
                </a:lnTo>
                <a:lnTo>
                  <a:pt x="2147" y="440"/>
                </a:lnTo>
                <a:lnTo>
                  <a:pt x="2270" y="436"/>
                </a:lnTo>
                <a:lnTo>
                  <a:pt x="2356" y="432"/>
                </a:lnTo>
                <a:lnTo>
                  <a:pt x="2392" y="428"/>
                </a:lnTo>
                <a:lnTo>
                  <a:pt x="2428" y="430"/>
                </a:lnTo>
                <a:lnTo>
                  <a:pt x="2456" y="448"/>
                </a:lnTo>
                <a:lnTo>
                  <a:pt x="2461" y="468"/>
                </a:lnTo>
                <a:lnTo>
                  <a:pt x="2441" y="478"/>
                </a:lnTo>
                <a:lnTo>
                  <a:pt x="2412" y="491"/>
                </a:lnTo>
                <a:lnTo>
                  <a:pt x="2401" y="525"/>
                </a:lnTo>
                <a:lnTo>
                  <a:pt x="2410" y="560"/>
                </a:lnTo>
                <a:lnTo>
                  <a:pt x="2441" y="576"/>
                </a:lnTo>
                <a:lnTo>
                  <a:pt x="2743" y="576"/>
                </a:lnTo>
                <a:lnTo>
                  <a:pt x="3045" y="576"/>
                </a:lnTo>
                <a:lnTo>
                  <a:pt x="3078" y="560"/>
                </a:lnTo>
                <a:lnTo>
                  <a:pt x="3085" y="525"/>
                </a:lnTo>
                <a:lnTo>
                  <a:pt x="3072" y="491"/>
                </a:lnTo>
                <a:lnTo>
                  <a:pt x="3045" y="478"/>
                </a:lnTo>
                <a:lnTo>
                  <a:pt x="3023" y="468"/>
                </a:lnTo>
                <a:lnTo>
                  <a:pt x="3029" y="448"/>
                </a:lnTo>
                <a:lnTo>
                  <a:pt x="3056" y="430"/>
                </a:lnTo>
                <a:lnTo>
                  <a:pt x="3094" y="428"/>
                </a:lnTo>
                <a:lnTo>
                  <a:pt x="3132" y="432"/>
                </a:lnTo>
                <a:lnTo>
                  <a:pt x="3214" y="436"/>
                </a:lnTo>
                <a:lnTo>
                  <a:pt x="3336" y="440"/>
                </a:lnTo>
                <a:lnTo>
                  <a:pt x="3492" y="446"/>
                </a:lnTo>
                <a:lnTo>
                  <a:pt x="3678" y="450"/>
                </a:lnTo>
                <a:lnTo>
                  <a:pt x="3878" y="460"/>
                </a:lnTo>
                <a:lnTo>
                  <a:pt x="4089" y="464"/>
                </a:lnTo>
                <a:lnTo>
                  <a:pt x="4313" y="470"/>
                </a:lnTo>
                <a:lnTo>
                  <a:pt x="4533" y="478"/>
                </a:lnTo>
                <a:lnTo>
                  <a:pt x="4746" y="482"/>
                </a:lnTo>
                <a:lnTo>
                  <a:pt x="4944" y="487"/>
                </a:lnTo>
                <a:lnTo>
                  <a:pt x="5120" y="491"/>
                </a:lnTo>
                <a:lnTo>
                  <a:pt x="5269" y="497"/>
                </a:lnTo>
                <a:lnTo>
                  <a:pt x="5384" y="499"/>
                </a:lnTo>
                <a:lnTo>
                  <a:pt x="5459" y="501"/>
                </a:lnTo>
                <a:lnTo>
                  <a:pt x="5484" y="501"/>
                </a:lnTo>
                <a:close/>
              </a:path>
            </a:pathLst>
          </a:custGeom>
          <a:solidFill>
            <a:srgbClr val="ffffe1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AutoShape 3"/>
          <p:cNvSpPr/>
          <p:nvPr/>
        </p:nvSpPr>
        <p:spPr>
          <a:xfrm>
            <a:off x="4648320" y="838080"/>
            <a:ext cx="4022640" cy="4745160"/>
          </a:xfrm>
          <a:custGeom>
            <a:avLst/>
            <a:gdLst>
              <a:gd name="textAreaLeft" fmla="*/ 0 w 4022640"/>
              <a:gd name="textAreaRight" fmla="*/ 4023000 w 4022640"/>
              <a:gd name="textAreaTop" fmla="*/ 0 h 4745160"/>
              <a:gd name="textAreaBottom" fmla="*/ 4745520 h 4745160"/>
            </a:gdLst>
            <a:ahLst/>
            <a:rect l="textAreaLeft" t="textAreaTop" r="textAreaRight" b="textAreaBottom"/>
            <a:pathLst>
              <a:path w="2534" h="2989">
                <a:moveTo>
                  <a:pt x="0" y="280"/>
                </a:moveTo>
                <a:lnTo>
                  <a:pt x="0" y="2989"/>
                </a:lnTo>
                <a:lnTo>
                  <a:pt x="86" y="2851"/>
                </a:lnTo>
                <a:lnTo>
                  <a:pt x="195" y="2740"/>
                </a:lnTo>
                <a:lnTo>
                  <a:pt x="327" y="2657"/>
                </a:lnTo>
                <a:lnTo>
                  <a:pt x="471" y="2598"/>
                </a:lnTo>
                <a:lnTo>
                  <a:pt x="633" y="2557"/>
                </a:lnTo>
                <a:lnTo>
                  <a:pt x="806" y="2537"/>
                </a:lnTo>
                <a:lnTo>
                  <a:pt x="988" y="2529"/>
                </a:lnTo>
                <a:lnTo>
                  <a:pt x="1171" y="2537"/>
                </a:lnTo>
                <a:lnTo>
                  <a:pt x="1362" y="2557"/>
                </a:lnTo>
                <a:lnTo>
                  <a:pt x="1552" y="2584"/>
                </a:lnTo>
                <a:lnTo>
                  <a:pt x="1741" y="2618"/>
                </a:lnTo>
                <a:lnTo>
                  <a:pt x="1921" y="2657"/>
                </a:lnTo>
                <a:lnTo>
                  <a:pt x="2094" y="2699"/>
                </a:lnTo>
                <a:lnTo>
                  <a:pt x="2257" y="2738"/>
                </a:lnTo>
                <a:lnTo>
                  <a:pt x="2403" y="2776"/>
                </a:lnTo>
                <a:lnTo>
                  <a:pt x="2534" y="2809"/>
                </a:lnTo>
                <a:lnTo>
                  <a:pt x="1426" y="132"/>
                </a:lnTo>
                <a:lnTo>
                  <a:pt x="1337" y="110"/>
                </a:lnTo>
                <a:lnTo>
                  <a:pt x="1244" y="88"/>
                </a:lnTo>
                <a:lnTo>
                  <a:pt x="1153" y="67"/>
                </a:lnTo>
                <a:lnTo>
                  <a:pt x="1060" y="49"/>
                </a:lnTo>
                <a:lnTo>
                  <a:pt x="966" y="27"/>
                </a:lnTo>
                <a:lnTo>
                  <a:pt x="873" y="15"/>
                </a:lnTo>
                <a:lnTo>
                  <a:pt x="779" y="4"/>
                </a:lnTo>
                <a:lnTo>
                  <a:pt x="688" y="0"/>
                </a:lnTo>
                <a:lnTo>
                  <a:pt x="597" y="2"/>
                </a:lnTo>
                <a:lnTo>
                  <a:pt x="506" y="12"/>
                </a:lnTo>
                <a:lnTo>
                  <a:pt x="417" y="27"/>
                </a:lnTo>
                <a:lnTo>
                  <a:pt x="329" y="59"/>
                </a:lnTo>
                <a:lnTo>
                  <a:pt x="242" y="94"/>
                </a:lnTo>
                <a:lnTo>
                  <a:pt x="160" y="142"/>
                </a:lnTo>
                <a:lnTo>
                  <a:pt x="76" y="203"/>
                </a:lnTo>
                <a:lnTo>
                  <a:pt x="0" y="280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AutoShape 4"/>
          <p:cNvSpPr/>
          <p:nvPr/>
        </p:nvSpPr>
        <p:spPr>
          <a:xfrm>
            <a:off x="609480" y="838080"/>
            <a:ext cx="4024440" cy="5104080"/>
          </a:xfrm>
          <a:custGeom>
            <a:avLst/>
            <a:gdLst>
              <a:gd name="textAreaLeft" fmla="*/ 0 w 4024440"/>
              <a:gd name="textAreaRight" fmla="*/ 4024800 w 4024440"/>
              <a:gd name="textAreaTop" fmla="*/ 0 h 5104080"/>
              <a:gd name="textAreaBottom" fmla="*/ 5104440 h 5104080"/>
            </a:gdLst>
            <a:ahLst/>
            <a:rect l="textAreaLeft" t="textAreaTop" r="textAreaRight" b="textAreaBottom"/>
            <a:pathLst>
              <a:path w="2535" h="2989">
                <a:moveTo>
                  <a:pt x="2535" y="280"/>
                </a:moveTo>
                <a:lnTo>
                  <a:pt x="2453" y="203"/>
                </a:lnTo>
                <a:lnTo>
                  <a:pt x="2371" y="142"/>
                </a:lnTo>
                <a:lnTo>
                  <a:pt x="2288" y="96"/>
                </a:lnTo>
                <a:lnTo>
                  <a:pt x="2202" y="59"/>
                </a:lnTo>
                <a:lnTo>
                  <a:pt x="2115" y="27"/>
                </a:lnTo>
                <a:lnTo>
                  <a:pt x="2028" y="12"/>
                </a:lnTo>
                <a:lnTo>
                  <a:pt x="1937" y="2"/>
                </a:lnTo>
                <a:lnTo>
                  <a:pt x="1846" y="0"/>
                </a:lnTo>
                <a:lnTo>
                  <a:pt x="1753" y="4"/>
                </a:lnTo>
                <a:lnTo>
                  <a:pt x="1662" y="15"/>
                </a:lnTo>
                <a:lnTo>
                  <a:pt x="1569" y="29"/>
                </a:lnTo>
                <a:lnTo>
                  <a:pt x="1477" y="49"/>
                </a:lnTo>
                <a:lnTo>
                  <a:pt x="1384" y="67"/>
                </a:lnTo>
                <a:lnTo>
                  <a:pt x="1291" y="88"/>
                </a:lnTo>
                <a:lnTo>
                  <a:pt x="1202" y="114"/>
                </a:lnTo>
                <a:lnTo>
                  <a:pt x="1111" y="134"/>
                </a:lnTo>
                <a:lnTo>
                  <a:pt x="0" y="2809"/>
                </a:lnTo>
                <a:lnTo>
                  <a:pt x="131" y="2776"/>
                </a:lnTo>
                <a:lnTo>
                  <a:pt x="280" y="2740"/>
                </a:lnTo>
                <a:lnTo>
                  <a:pt x="443" y="2699"/>
                </a:lnTo>
                <a:lnTo>
                  <a:pt x="620" y="2661"/>
                </a:lnTo>
                <a:lnTo>
                  <a:pt x="802" y="2622"/>
                </a:lnTo>
                <a:lnTo>
                  <a:pt x="995" y="2588"/>
                </a:lnTo>
                <a:lnTo>
                  <a:pt x="1182" y="2563"/>
                </a:lnTo>
                <a:lnTo>
                  <a:pt x="1375" y="2541"/>
                </a:lnTo>
                <a:lnTo>
                  <a:pt x="1562" y="2537"/>
                </a:lnTo>
                <a:lnTo>
                  <a:pt x="1746" y="2541"/>
                </a:lnTo>
                <a:lnTo>
                  <a:pt x="1919" y="2565"/>
                </a:lnTo>
                <a:lnTo>
                  <a:pt x="2079" y="2602"/>
                </a:lnTo>
                <a:lnTo>
                  <a:pt x="2222" y="2661"/>
                </a:lnTo>
                <a:lnTo>
                  <a:pt x="2350" y="2746"/>
                </a:lnTo>
                <a:lnTo>
                  <a:pt x="2457" y="2851"/>
                </a:lnTo>
                <a:lnTo>
                  <a:pt x="2535" y="2989"/>
                </a:lnTo>
                <a:lnTo>
                  <a:pt x="2535" y="280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AutoShape 5"/>
          <p:cNvSpPr/>
          <p:nvPr/>
        </p:nvSpPr>
        <p:spPr>
          <a:xfrm>
            <a:off x="6872400" y="1039680"/>
            <a:ext cx="2087280" cy="4600800"/>
          </a:xfrm>
          <a:custGeom>
            <a:avLst/>
            <a:gdLst>
              <a:gd name="textAreaLeft" fmla="*/ 0 w 2087280"/>
              <a:gd name="textAreaRight" fmla="*/ 2087280 w 2087280"/>
              <a:gd name="textAreaTop" fmla="*/ 0 h 4600800"/>
              <a:gd name="textAreaBottom" fmla="*/ 4601160 h 4600800"/>
            </a:gdLst>
            <a:ahLst/>
            <a:rect l="textAreaLeft" t="textAreaTop" r="textAreaRight" b="textAreaBottom"/>
            <a:pathLst>
              <a:path w="1315" h="2898">
                <a:moveTo>
                  <a:pt x="0" y="0"/>
                </a:moveTo>
                <a:lnTo>
                  <a:pt x="1108" y="2677"/>
                </a:lnTo>
                <a:lnTo>
                  <a:pt x="1315" y="2898"/>
                </a:lnTo>
                <a:lnTo>
                  <a:pt x="115" y="132"/>
                </a:lnTo>
                <a:lnTo>
                  <a:pt x="85" y="132"/>
                </a:lnTo>
                <a:lnTo>
                  <a:pt x="0" y="0"/>
                </a:lnTo>
                <a:close/>
              </a:path>
            </a:pathLst>
          </a:custGeom>
          <a:solidFill>
            <a:srgbClr val="ffffe1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AutoShape 6"/>
          <p:cNvSpPr/>
          <p:nvPr/>
        </p:nvSpPr>
        <p:spPr>
          <a:xfrm>
            <a:off x="254160" y="1042920"/>
            <a:ext cx="2093760" cy="4597560"/>
          </a:xfrm>
          <a:custGeom>
            <a:avLst/>
            <a:gdLst>
              <a:gd name="textAreaLeft" fmla="*/ 0 w 2093760"/>
              <a:gd name="textAreaRight" fmla="*/ 2094120 w 2093760"/>
              <a:gd name="textAreaTop" fmla="*/ 0 h 4597560"/>
              <a:gd name="textAreaBottom" fmla="*/ 4597920 h 4597560"/>
            </a:gdLst>
            <a:ahLst/>
            <a:rect l="textAreaLeft" t="textAreaTop" r="textAreaRight" b="textAreaBottom"/>
            <a:pathLst>
              <a:path w="1319" h="2896">
                <a:moveTo>
                  <a:pt x="0" y="2896"/>
                </a:moveTo>
                <a:lnTo>
                  <a:pt x="208" y="2675"/>
                </a:lnTo>
                <a:lnTo>
                  <a:pt x="1319" y="0"/>
                </a:lnTo>
                <a:lnTo>
                  <a:pt x="1232" y="130"/>
                </a:lnTo>
                <a:lnTo>
                  <a:pt x="1204" y="130"/>
                </a:lnTo>
                <a:lnTo>
                  <a:pt x="0" y="2896"/>
                </a:lnTo>
                <a:close/>
              </a:path>
            </a:pathLst>
          </a:custGeom>
          <a:solidFill>
            <a:srgbClr val="ffffe1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AutoShape 7"/>
          <p:cNvSpPr/>
          <p:nvPr/>
        </p:nvSpPr>
        <p:spPr>
          <a:xfrm>
            <a:off x="225360" y="795240"/>
            <a:ext cx="8763120" cy="4996080"/>
          </a:xfrm>
          <a:custGeom>
            <a:avLst/>
            <a:gdLst>
              <a:gd name="textAreaLeft" fmla="*/ 0 w 8763120"/>
              <a:gd name="textAreaRight" fmla="*/ 8763480 w 8763120"/>
              <a:gd name="textAreaTop" fmla="*/ 0 h 4996080"/>
              <a:gd name="textAreaBottom" fmla="*/ 4996440 h 4996080"/>
            </a:gdLst>
            <a:ahLst/>
            <a:rect l="textAreaLeft" t="textAreaTop" r="textAreaRight" b="textAreaBottom"/>
            <a:pathLst>
              <a:path w="5520" h="3147">
                <a:moveTo>
                  <a:pt x="2761" y="326"/>
                </a:moveTo>
                <a:lnTo>
                  <a:pt x="2770" y="318"/>
                </a:lnTo>
                <a:lnTo>
                  <a:pt x="2848" y="241"/>
                </a:lnTo>
                <a:lnTo>
                  <a:pt x="2932" y="183"/>
                </a:lnTo>
                <a:lnTo>
                  <a:pt x="3010" y="136"/>
                </a:lnTo>
                <a:lnTo>
                  <a:pt x="3098" y="99"/>
                </a:lnTo>
                <a:lnTo>
                  <a:pt x="3179" y="71"/>
                </a:lnTo>
                <a:lnTo>
                  <a:pt x="3267" y="51"/>
                </a:lnTo>
                <a:lnTo>
                  <a:pt x="3358" y="45"/>
                </a:lnTo>
                <a:lnTo>
                  <a:pt x="3449" y="41"/>
                </a:lnTo>
                <a:lnTo>
                  <a:pt x="3540" y="49"/>
                </a:lnTo>
                <a:lnTo>
                  <a:pt x="3632" y="59"/>
                </a:lnTo>
                <a:lnTo>
                  <a:pt x="3725" y="71"/>
                </a:lnTo>
                <a:lnTo>
                  <a:pt x="3818" y="89"/>
                </a:lnTo>
                <a:lnTo>
                  <a:pt x="3909" y="109"/>
                </a:lnTo>
                <a:lnTo>
                  <a:pt x="4001" y="130"/>
                </a:lnTo>
                <a:lnTo>
                  <a:pt x="4094" y="154"/>
                </a:lnTo>
                <a:lnTo>
                  <a:pt x="4180" y="172"/>
                </a:lnTo>
                <a:lnTo>
                  <a:pt x="4256" y="296"/>
                </a:lnTo>
                <a:lnTo>
                  <a:pt x="4272" y="306"/>
                </a:lnTo>
                <a:lnTo>
                  <a:pt x="4293" y="306"/>
                </a:lnTo>
                <a:lnTo>
                  <a:pt x="5473" y="3033"/>
                </a:lnTo>
                <a:lnTo>
                  <a:pt x="5402" y="3031"/>
                </a:lnTo>
                <a:lnTo>
                  <a:pt x="5287" y="3029"/>
                </a:lnTo>
                <a:lnTo>
                  <a:pt x="5138" y="3023"/>
                </a:lnTo>
                <a:lnTo>
                  <a:pt x="4962" y="3019"/>
                </a:lnTo>
                <a:lnTo>
                  <a:pt x="4764" y="3015"/>
                </a:lnTo>
                <a:lnTo>
                  <a:pt x="4551" y="3007"/>
                </a:lnTo>
                <a:lnTo>
                  <a:pt x="4331" y="3001"/>
                </a:lnTo>
                <a:lnTo>
                  <a:pt x="4107" y="2995"/>
                </a:lnTo>
                <a:lnTo>
                  <a:pt x="3896" y="2987"/>
                </a:lnTo>
                <a:lnTo>
                  <a:pt x="3696" y="2981"/>
                </a:lnTo>
                <a:lnTo>
                  <a:pt x="3510" y="2975"/>
                </a:lnTo>
                <a:lnTo>
                  <a:pt x="3354" y="2969"/>
                </a:lnTo>
                <a:lnTo>
                  <a:pt x="3232" y="2964"/>
                </a:lnTo>
                <a:lnTo>
                  <a:pt x="3150" y="2960"/>
                </a:lnTo>
                <a:lnTo>
                  <a:pt x="3116" y="2958"/>
                </a:lnTo>
                <a:lnTo>
                  <a:pt x="3070" y="2960"/>
                </a:lnTo>
                <a:lnTo>
                  <a:pt x="3034" y="2983"/>
                </a:lnTo>
                <a:lnTo>
                  <a:pt x="3025" y="3031"/>
                </a:lnTo>
                <a:lnTo>
                  <a:pt x="3063" y="3048"/>
                </a:lnTo>
                <a:lnTo>
                  <a:pt x="3079" y="3058"/>
                </a:lnTo>
                <a:lnTo>
                  <a:pt x="3085" y="3076"/>
                </a:lnTo>
                <a:lnTo>
                  <a:pt x="3081" y="3098"/>
                </a:lnTo>
                <a:lnTo>
                  <a:pt x="3063" y="3106"/>
                </a:lnTo>
                <a:lnTo>
                  <a:pt x="2761" y="3106"/>
                </a:lnTo>
                <a:lnTo>
                  <a:pt x="2459" y="3106"/>
                </a:lnTo>
                <a:lnTo>
                  <a:pt x="2441" y="3098"/>
                </a:lnTo>
                <a:lnTo>
                  <a:pt x="2441" y="3076"/>
                </a:lnTo>
                <a:lnTo>
                  <a:pt x="2445" y="3058"/>
                </a:lnTo>
                <a:lnTo>
                  <a:pt x="2459" y="3048"/>
                </a:lnTo>
                <a:lnTo>
                  <a:pt x="2499" y="3031"/>
                </a:lnTo>
                <a:lnTo>
                  <a:pt x="2490" y="2983"/>
                </a:lnTo>
                <a:lnTo>
                  <a:pt x="2452" y="2960"/>
                </a:lnTo>
                <a:lnTo>
                  <a:pt x="2405" y="2958"/>
                </a:lnTo>
                <a:lnTo>
                  <a:pt x="2374" y="2960"/>
                </a:lnTo>
                <a:lnTo>
                  <a:pt x="2288" y="2964"/>
                </a:lnTo>
                <a:lnTo>
                  <a:pt x="2165" y="2969"/>
                </a:lnTo>
                <a:lnTo>
                  <a:pt x="2012" y="2975"/>
                </a:lnTo>
                <a:lnTo>
                  <a:pt x="1830" y="2981"/>
                </a:lnTo>
                <a:lnTo>
                  <a:pt x="1626" y="2987"/>
                </a:lnTo>
                <a:lnTo>
                  <a:pt x="1412" y="2995"/>
                </a:lnTo>
                <a:lnTo>
                  <a:pt x="1191" y="3001"/>
                </a:lnTo>
                <a:lnTo>
                  <a:pt x="973" y="3007"/>
                </a:lnTo>
                <a:lnTo>
                  <a:pt x="760" y="3015"/>
                </a:lnTo>
                <a:lnTo>
                  <a:pt x="562" y="3019"/>
                </a:lnTo>
                <a:lnTo>
                  <a:pt x="382" y="3023"/>
                </a:lnTo>
                <a:lnTo>
                  <a:pt x="235" y="3029"/>
                </a:lnTo>
                <a:lnTo>
                  <a:pt x="120" y="3031"/>
                </a:lnTo>
                <a:lnTo>
                  <a:pt x="47" y="3033"/>
                </a:lnTo>
                <a:lnTo>
                  <a:pt x="1231" y="306"/>
                </a:lnTo>
                <a:lnTo>
                  <a:pt x="1250" y="306"/>
                </a:lnTo>
                <a:lnTo>
                  <a:pt x="1268" y="296"/>
                </a:lnTo>
                <a:lnTo>
                  <a:pt x="1348" y="172"/>
                </a:lnTo>
                <a:lnTo>
                  <a:pt x="1432" y="154"/>
                </a:lnTo>
                <a:lnTo>
                  <a:pt x="1521" y="132"/>
                </a:lnTo>
                <a:lnTo>
                  <a:pt x="1615" y="110"/>
                </a:lnTo>
                <a:lnTo>
                  <a:pt x="1706" y="89"/>
                </a:lnTo>
                <a:lnTo>
                  <a:pt x="1797" y="71"/>
                </a:lnTo>
                <a:lnTo>
                  <a:pt x="1892" y="61"/>
                </a:lnTo>
                <a:lnTo>
                  <a:pt x="1979" y="49"/>
                </a:lnTo>
                <a:lnTo>
                  <a:pt x="2072" y="45"/>
                </a:lnTo>
                <a:lnTo>
                  <a:pt x="2163" y="45"/>
                </a:lnTo>
                <a:lnTo>
                  <a:pt x="2252" y="53"/>
                </a:lnTo>
                <a:lnTo>
                  <a:pt x="2339" y="71"/>
                </a:lnTo>
                <a:lnTo>
                  <a:pt x="2423" y="99"/>
                </a:lnTo>
                <a:lnTo>
                  <a:pt x="2508" y="136"/>
                </a:lnTo>
                <a:lnTo>
                  <a:pt x="2590" y="183"/>
                </a:lnTo>
                <a:lnTo>
                  <a:pt x="2667" y="241"/>
                </a:lnTo>
                <a:lnTo>
                  <a:pt x="2748" y="316"/>
                </a:lnTo>
                <a:lnTo>
                  <a:pt x="2761" y="328"/>
                </a:lnTo>
                <a:lnTo>
                  <a:pt x="2759" y="326"/>
                </a:lnTo>
                <a:lnTo>
                  <a:pt x="2759" y="274"/>
                </a:lnTo>
                <a:lnTo>
                  <a:pt x="2692" y="211"/>
                </a:lnTo>
                <a:lnTo>
                  <a:pt x="2612" y="146"/>
                </a:lnTo>
                <a:lnTo>
                  <a:pt x="2525" y="97"/>
                </a:lnTo>
                <a:lnTo>
                  <a:pt x="2437" y="59"/>
                </a:lnTo>
                <a:lnTo>
                  <a:pt x="2346" y="32"/>
                </a:lnTo>
                <a:lnTo>
                  <a:pt x="2255" y="14"/>
                </a:lnTo>
                <a:lnTo>
                  <a:pt x="2163" y="4"/>
                </a:lnTo>
                <a:lnTo>
                  <a:pt x="2072" y="2"/>
                </a:lnTo>
                <a:lnTo>
                  <a:pt x="1979" y="6"/>
                </a:lnTo>
                <a:lnTo>
                  <a:pt x="1886" y="18"/>
                </a:lnTo>
                <a:lnTo>
                  <a:pt x="1793" y="32"/>
                </a:lnTo>
                <a:lnTo>
                  <a:pt x="1699" y="49"/>
                </a:lnTo>
                <a:lnTo>
                  <a:pt x="1606" y="71"/>
                </a:lnTo>
                <a:lnTo>
                  <a:pt x="1515" y="91"/>
                </a:lnTo>
                <a:lnTo>
                  <a:pt x="1424" y="116"/>
                </a:lnTo>
                <a:lnTo>
                  <a:pt x="1333" y="136"/>
                </a:lnTo>
                <a:lnTo>
                  <a:pt x="1321" y="146"/>
                </a:lnTo>
                <a:lnTo>
                  <a:pt x="1242" y="266"/>
                </a:lnTo>
                <a:lnTo>
                  <a:pt x="1222" y="264"/>
                </a:lnTo>
                <a:lnTo>
                  <a:pt x="1206" y="276"/>
                </a:lnTo>
                <a:lnTo>
                  <a:pt x="0" y="3046"/>
                </a:lnTo>
                <a:lnTo>
                  <a:pt x="18" y="3076"/>
                </a:lnTo>
                <a:lnTo>
                  <a:pt x="44" y="3074"/>
                </a:lnTo>
                <a:lnTo>
                  <a:pt x="120" y="3070"/>
                </a:lnTo>
                <a:lnTo>
                  <a:pt x="235" y="3068"/>
                </a:lnTo>
                <a:lnTo>
                  <a:pt x="382" y="3064"/>
                </a:lnTo>
                <a:lnTo>
                  <a:pt x="562" y="3058"/>
                </a:lnTo>
                <a:lnTo>
                  <a:pt x="760" y="3056"/>
                </a:lnTo>
                <a:lnTo>
                  <a:pt x="973" y="3048"/>
                </a:lnTo>
                <a:lnTo>
                  <a:pt x="1191" y="3042"/>
                </a:lnTo>
                <a:lnTo>
                  <a:pt x="1412" y="3037"/>
                </a:lnTo>
                <a:lnTo>
                  <a:pt x="1626" y="3031"/>
                </a:lnTo>
                <a:lnTo>
                  <a:pt x="1830" y="3023"/>
                </a:lnTo>
                <a:lnTo>
                  <a:pt x="2012" y="3019"/>
                </a:lnTo>
                <a:lnTo>
                  <a:pt x="2165" y="3011"/>
                </a:lnTo>
                <a:lnTo>
                  <a:pt x="2288" y="3007"/>
                </a:lnTo>
                <a:lnTo>
                  <a:pt x="2374" y="3003"/>
                </a:lnTo>
                <a:lnTo>
                  <a:pt x="2412" y="2999"/>
                </a:lnTo>
                <a:lnTo>
                  <a:pt x="2445" y="3001"/>
                </a:lnTo>
                <a:lnTo>
                  <a:pt x="2459" y="3007"/>
                </a:lnTo>
                <a:lnTo>
                  <a:pt x="2417" y="3031"/>
                </a:lnTo>
                <a:lnTo>
                  <a:pt x="2399" y="3076"/>
                </a:lnTo>
                <a:lnTo>
                  <a:pt x="2414" y="3127"/>
                </a:lnTo>
                <a:lnTo>
                  <a:pt x="2459" y="3147"/>
                </a:lnTo>
                <a:lnTo>
                  <a:pt x="2761" y="3147"/>
                </a:lnTo>
                <a:lnTo>
                  <a:pt x="3063" y="3147"/>
                </a:lnTo>
                <a:lnTo>
                  <a:pt x="3110" y="3127"/>
                </a:lnTo>
                <a:lnTo>
                  <a:pt x="3125" y="3076"/>
                </a:lnTo>
                <a:lnTo>
                  <a:pt x="3107" y="3031"/>
                </a:lnTo>
                <a:lnTo>
                  <a:pt x="3063" y="3007"/>
                </a:lnTo>
                <a:lnTo>
                  <a:pt x="3076" y="3001"/>
                </a:lnTo>
                <a:lnTo>
                  <a:pt x="3110" y="2999"/>
                </a:lnTo>
                <a:lnTo>
                  <a:pt x="3148" y="3003"/>
                </a:lnTo>
                <a:lnTo>
                  <a:pt x="3232" y="3007"/>
                </a:lnTo>
                <a:lnTo>
                  <a:pt x="3354" y="3011"/>
                </a:lnTo>
                <a:lnTo>
                  <a:pt x="3510" y="3019"/>
                </a:lnTo>
                <a:lnTo>
                  <a:pt x="3696" y="3023"/>
                </a:lnTo>
                <a:lnTo>
                  <a:pt x="3896" y="3031"/>
                </a:lnTo>
                <a:lnTo>
                  <a:pt x="4107" y="3037"/>
                </a:lnTo>
                <a:lnTo>
                  <a:pt x="4331" y="3042"/>
                </a:lnTo>
                <a:lnTo>
                  <a:pt x="4551" y="3048"/>
                </a:lnTo>
                <a:lnTo>
                  <a:pt x="4764" y="3056"/>
                </a:lnTo>
                <a:lnTo>
                  <a:pt x="4962" y="3058"/>
                </a:lnTo>
                <a:lnTo>
                  <a:pt x="5138" y="3064"/>
                </a:lnTo>
                <a:lnTo>
                  <a:pt x="5287" y="3068"/>
                </a:lnTo>
                <a:lnTo>
                  <a:pt x="5402" y="3070"/>
                </a:lnTo>
                <a:lnTo>
                  <a:pt x="5477" y="3074"/>
                </a:lnTo>
                <a:lnTo>
                  <a:pt x="5502" y="3076"/>
                </a:lnTo>
                <a:lnTo>
                  <a:pt x="5520" y="3046"/>
                </a:lnTo>
                <a:lnTo>
                  <a:pt x="4322" y="276"/>
                </a:lnTo>
                <a:lnTo>
                  <a:pt x="4302" y="264"/>
                </a:lnTo>
                <a:lnTo>
                  <a:pt x="4283" y="264"/>
                </a:lnTo>
                <a:lnTo>
                  <a:pt x="4200" y="142"/>
                </a:lnTo>
                <a:lnTo>
                  <a:pt x="4192" y="136"/>
                </a:lnTo>
                <a:lnTo>
                  <a:pt x="4102" y="112"/>
                </a:lnTo>
                <a:lnTo>
                  <a:pt x="4009" y="89"/>
                </a:lnTo>
                <a:lnTo>
                  <a:pt x="3918" y="71"/>
                </a:lnTo>
                <a:lnTo>
                  <a:pt x="3823" y="49"/>
                </a:lnTo>
                <a:lnTo>
                  <a:pt x="3729" y="30"/>
                </a:lnTo>
                <a:lnTo>
                  <a:pt x="3636" y="18"/>
                </a:lnTo>
                <a:lnTo>
                  <a:pt x="3540" y="6"/>
                </a:lnTo>
                <a:lnTo>
                  <a:pt x="3449" y="0"/>
                </a:lnTo>
                <a:lnTo>
                  <a:pt x="3358" y="2"/>
                </a:lnTo>
                <a:lnTo>
                  <a:pt x="3263" y="12"/>
                </a:lnTo>
                <a:lnTo>
                  <a:pt x="3176" y="30"/>
                </a:lnTo>
                <a:lnTo>
                  <a:pt x="3083" y="59"/>
                </a:lnTo>
                <a:lnTo>
                  <a:pt x="2994" y="95"/>
                </a:lnTo>
                <a:lnTo>
                  <a:pt x="2910" y="146"/>
                </a:lnTo>
                <a:lnTo>
                  <a:pt x="2825" y="211"/>
                </a:lnTo>
                <a:lnTo>
                  <a:pt x="2759" y="274"/>
                </a:lnTo>
                <a:lnTo>
                  <a:pt x="2761" y="326"/>
                </a:lnTo>
                <a:close/>
              </a:path>
            </a:pathLst>
          </a:custGeom>
          <a:solidFill>
            <a:srgbClr val="ff0000"/>
          </a:solidFill>
          <a:ln w="3240">
            <a:solidFill>
              <a:srgbClr val="80010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AutoShape 8"/>
          <p:cNvSpPr/>
          <p:nvPr/>
        </p:nvSpPr>
        <p:spPr>
          <a:xfrm>
            <a:off x="228600" y="762120"/>
            <a:ext cx="8763120" cy="4995720"/>
          </a:xfrm>
          <a:custGeom>
            <a:avLst/>
            <a:gdLst>
              <a:gd name="textAreaLeft" fmla="*/ 0 w 8763120"/>
              <a:gd name="textAreaRight" fmla="*/ 8763480 w 8763120"/>
              <a:gd name="textAreaTop" fmla="*/ 0 h 4995720"/>
              <a:gd name="textAreaBottom" fmla="*/ 4996080 h 4995720"/>
            </a:gdLst>
            <a:ahLst/>
            <a:rect l="textAreaLeft" t="textAreaTop" r="textAreaRight" b="textAreaBottom"/>
            <a:pathLst>
              <a:path w="5520" h="3147">
                <a:moveTo>
                  <a:pt x="2761" y="326"/>
                </a:moveTo>
                <a:lnTo>
                  <a:pt x="2770" y="318"/>
                </a:lnTo>
                <a:lnTo>
                  <a:pt x="2848" y="241"/>
                </a:lnTo>
                <a:lnTo>
                  <a:pt x="2932" y="183"/>
                </a:lnTo>
                <a:lnTo>
                  <a:pt x="3010" y="136"/>
                </a:lnTo>
                <a:lnTo>
                  <a:pt x="3098" y="99"/>
                </a:lnTo>
                <a:lnTo>
                  <a:pt x="3179" y="71"/>
                </a:lnTo>
                <a:lnTo>
                  <a:pt x="3267" y="51"/>
                </a:lnTo>
                <a:lnTo>
                  <a:pt x="3358" y="45"/>
                </a:lnTo>
                <a:lnTo>
                  <a:pt x="3449" y="41"/>
                </a:lnTo>
                <a:lnTo>
                  <a:pt x="3540" y="49"/>
                </a:lnTo>
                <a:lnTo>
                  <a:pt x="3632" y="59"/>
                </a:lnTo>
                <a:lnTo>
                  <a:pt x="3725" y="71"/>
                </a:lnTo>
                <a:lnTo>
                  <a:pt x="3818" y="89"/>
                </a:lnTo>
                <a:lnTo>
                  <a:pt x="3909" y="109"/>
                </a:lnTo>
                <a:lnTo>
                  <a:pt x="4001" y="130"/>
                </a:lnTo>
                <a:lnTo>
                  <a:pt x="4094" y="154"/>
                </a:lnTo>
                <a:lnTo>
                  <a:pt x="4180" y="172"/>
                </a:lnTo>
                <a:lnTo>
                  <a:pt x="4256" y="296"/>
                </a:lnTo>
                <a:lnTo>
                  <a:pt x="4272" y="306"/>
                </a:lnTo>
                <a:lnTo>
                  <a:pt x="4293" y="306"/>
                </a:lnTo>
                <a:lnTo>
                  <a:pt x="5473" y="3033"/>
                </a:lnTo>
                <a:lnTo>
                  <a:pt x="5402" y="3031"/>
                </a:lnTo>
                <a:lnTo>
                  <a:pt x="5287" y="3029"/>
                </a:lnTo>
                <a:lnTo>
                  <a:pt x="5138" y="3023"/>
                </a:lnTo>
                <a:lnTo>
                  <a:pt x="4962" y="3019"/>
                </a:lnTo>
                <a:lnTo>
                  <a:pt x="4764" y="3015"/>
                </a:lnTo>
                <a:lnTo>
                  <a:pt x="4551" y="3007"/>
                </a:lnTo>
                <a:lnTo>
                  <a:pt x="4331" y="3001"/>
                </a:lnTo>
                <a:lnTo>
                  <a:pt x="4107" y="2995"/>
                </a:lnTo>
                <a:lnTo>
                  <a:pt x="3896" y="2987"/>
                </a:lnTo>
                <a:lnTo>
                  <a:pt x="3696" y="2981"/>
                </a:lnTo>
                <a:lnTo>
                  <a:pt x="3510" y="2975"/>
                </a:lnTo>
                <a:lnTo>
                  <a:pt x="3354" y="2969"/>
                </a:lnTo>
                <a:lnTo>
                  <a:pt x="3232" y="2964"/>
                </a:lnTo>
                <a:lnTo>
                  <a:pt x="3150" y="2960"/>
                </a:lnTo>
                <a:lnTo>
                  <a:pt x="3116" y="2958"/>
                </a:lnTo>
                <a:lnTo>
                  <a:pt x="3070" y="2960"/>
                </a:lnTo>
                <a:lnTo>
                  <a:pt x="3034" y="2983"/>
                </a:lnTo>
                <a:lnTo>
                  <a:pt x="3025" y="3031"/>
                </a:lnTo>
                <a:lnTo>
                  <a:pt x="3063" y="3048"/>
                </a:lnTo>
                <a:lnTo>
                  <a:pt x="3079" y="3058"/>
                </a:lnTo>
                <a:lnTo>
                  <a:pt x="3085" y="3076"/>
                </a:lnTo>
                <a:lnTo>
                  <a:pt x="3081" y="3098"/>
                </a:lnTo>
                <a:lnTo>
                  <a:pt x="3063" y="3106"/>
                </a:lnTo>
                <a:lnTo>
                  <a:pt x="2761" y="3106"/>
                </a:lnTo>
                <a:lnTo>
                  <a:pt x="2459" y="3106"/>
                </a:lnTo>
                <a:lnTo>
                  <a:pt x="2441" y="3098"/>
                </a:lnTo>
                <a:lnTo>
                  <a:pt x="2441" y="3076"/>
                </a:lnTo>
                <a:lnTo>
                  <a:pt x="2445" y="3058"/>
                </a:lnTo>
                <a:lnTo>
                  <a:pt x="2459" y="3048"/>
                </a:lnTo>
                <a:lnTo>
                  <a:pt x="2499" y="3031"/>
                </a:lnTo>
                <a:lnTo>
                  <a:pt x="2490" y="2983"/>
                </a:lnTo>
                <a:lnTo>
                  <a:pt x="2452" y="2960"/>
                </a:lnTo>
                <a:lnTo>
                  <a:pt x="2405" y="2958"/>
                </a:lnTo>
                <a:lnTo>
                  <a:pt x="2374" y="2960"/>
                </a:lnTo>
                <a:lnTo>
                  <a:pt x="2288" y="2964"/>
                </a:lnTo>
                <a:lnTo>
                  <a:pt x="2165" y="2969"/>
                </a:lnTo>
                <a:lnTo>
                  <a:pt x="2012" y="2975"/>
                </a:lnTo>
                <a:lnTo>
                  <a:pt x="1830" y="2981"/>
                </a:lnTo>
                <a:lnTo>
                  <a:pt x="1626" y="2987"/>
                </a:lnTo>
                <a:lnTo>
                  <a:pt x="1412" y="2995"/>
                </a:lnTo>
                <a:lnTo>
                  <a:pt x="1191" y="3001"/>
                </a:lnTo>
                <a:lnTo>
                  <a:pt x="973" y="3007"/>
                </a:lnTo>
                <a:lnTo>
                  <a:pt x="760" y="3015"/>
                </a:lnTo>
                <a:lnTo>
                  <a:pt x="562" y="3019"/>
                </a:lnTo>
                <a:lnTo>
                  <a:pt x="382" y="3023"/>
                </a:lnTo>
                <a:lnTo>
                  <a:pt x="235" y="3029"/>
                </a:lnTo>
                <a:lnTo>
                  <a:pt x="120" y="3031"/>
                </a:lnTo>
                <a:lnTo>
                  <a:pt x="47" y="3033"/>
                </a:lnTo>
                <a:lnTo>
                  <a:pt x="1231" y="306"/>
                </a:lnTo>
                <a:lnTo>
                  <a:pt x="1250" y="306"/>
                </a:lnTo>
                <a:lnTo>
                  <a:pt x="1268" y="296"/>
                </a:lnTo>
                <a:lnTo>
                  <a:pt x="1348" y="172"/>
                </a:lnTo>
                <a:lnTo>
                  <a:pt x="1432" y="154"/>
                </a:lnTo>
                <a:lnTo>
                  <a:pt x="1521" y="132"/>
                </a:lnTo>
                <a:lnTo>
                  <a:pt x="1615" y="110"/>
                </a:lnTo>
                <a:lnTo>
                  <a:pt x="1706" y="89"/>
                </a:lnTo>
                <a:lnTo>
                  <a:pt x="1797" y="71"/>
                </a:lnTo>
                <a:lnTo>
                  <a:pt x="1892" y="61"/>
                </a:lnTo>
                <a:lnTo>
                  <a:pt x="1979" y="49"/>
                </a:lnTo>
                <a:lnTo>
                  <a:pt x="2072" y="45"/>
                </a:lnTo>
                <a:lnTo>
                  <a:pt x="2163" y="45"/>
                </a:lnTo>
                <a:lnTo>
                  <a:pt x="2252" y="53"/>
                </a:lnTo>
                <a:lnTo>
                  <a:pt x="2339" y="71"/>
                </a:lnTo>
                <a:lnTo>
                  <a:pt x="2423" y="99"/>
                </a:lnTo>
                <a:lnTo>
                  <a:pt x="2508" y="136"/>
                </a:lnTo>
                <a:lnTo>
                  <a:pt x="2590" y="183"/>
                </a:lnTo>
                <a:lnTo>
                  <a:pt x="2667" y="241"/>
                </a:lnTo>
                <a:lnTo>
                  <a:pt x="2748" y="316"/>
                </a:lnTo>
                <a:lnTo>
                  <a:pt x="2761" y="328"/>
                </a:lnTo>
                <a:lnTo>
                  <a:pt x="2759" y="326"/>
                </a:lnTo>
                <a:lnTo>
                  <a:pt x="2759" y="274"/>
                </a:lnTo>
                <a:lnTo>
                  <a:pt x="2692" y="211"/>
                </a:lnTo>
                <a:lnTo>
                  <a:pt x="2612" y="146"/>
                </a:lnTo>
                <a:lnTo>
                  <a:pt x="2525" y="97"/>
                </a:lnTo>
                <a:lnTo>
                  <a:pt x="2437" y="59"/>
                </a:lnTo>
                <a:lnTo>
                  <a:pt x="2346" y="32"/>
                </a:lnTo>
                <a:lnTo>
                  <a:pt x="2255" y="14"/>
                </a:lnTo>
                <a:lnTo>
                  <a:pt x="2163" y="4"/>
                </a:lnTo>
                <a:lnTo>
                  <a:pt x="2072" y="2"/>
                </a:lnTo>
                <a:lnTo>
                  <a:pt x="1979" y="6"/>
                </a:lnTo>
                <a:lnTo>
                  <a:pt x="1886" y="18"/>
                </a:lnTo>
                <a:lnTo>
                  <a:pt x="1793" y="32"/>
                </a:lnTo>
                <a:lnTo>
                  <a:pt x="1699" y="49"/>
                </a:lnTo>
                <a:lnTo>
                  <a:pt x="1606" y="71"/>
                </a:lnTo>
                <a:lnTo>
                  <a:pt x="1515" y="91"/>
                </a:lnTo>
                <a:lnTo>
                  <a:pt x="1424" y="116"/>
                </a:lnTo>
                <a:lnTo>
                  <a:pt x="1333" y="136"/>
                </a:lnTo>
                <a:lnTo>
                  <a:pt x="1321" y="146"/>
                </a:lnTo>
                <a:lnTo>
                  <a:pt x="1242" y="266"/>
                </a:lnTo>
                <a:lnTo>
                  <a:pt x="1222" y="264"/>
                </a:lnTo>
                <a:lnTo>
                  <a:pt x="1206" y="276"/>
                </a:lnTo>
                <a:lnTo>
                  <a:pt x="0" y="3046"/>
                </a:lnTo>
                <a:lnTo>
                  <a:pt x="18" y="3076"/>
                </a:lnTo>
                <a:lnTo>
                  <a:pt x="44" y="3074"/>
                </a:lnTo>
                <a:lnTo>
                  <a:pt x="120" y="3070"/>
                </a:lnTo>
                <a:lnTo>
                  <a:pt x="235" y="3068"/>
                </a:lnTo>
                <a:lnTo>
                  <a:pt x="382" y="3064"/>
                </a:lnTo>
                <a:lnTo>
                  <a:pt x="562" y="3058"/>
                </a:lnTo>
                <a:lnTo>
                  <a:pt x="760" y="3056"/>
                </a:lnTo>
                <a:lnTo>
                  <a:pt x="973" y="3048"/>
                </a:lnTo>
                <a:lnTo>
                  <a:pt x="1191" y="3042"/>
                </a:lnTo>
                <a:lnTo>
                  <a:pt x="1412" y="3037"/>
                </a:lnTo>
                <a:lnTo>
                  <a:pt x="1626" y="3031"/>
                </a:lnTo>
                <a:lnTo>
                  <a:pt x="1830" y="3023"/>
                </a:lnTo>
                <a:lnTo>
                  <a:pt x="2012" y="3019"/>
                </a:lnTo>
                <a:lnTo>
                  <a:pt x="2165" y="3011"/>
                </a:lnTo>
                <a:lnTo>
                  <a:pt x="2288" y="3007"/>
                </a:lnTo>
                <a:lnTo>
                  <a:pt x="2374" y="3003"/>
                </a:lnTo>
                <a:lnTo>
                  <a:pt x="2412" y="2999"/>
                </a:lnTo>
                <a:lnTo>
                  <a:pt x="2445" y="3001"/>
                </a:lnTo>
                <a:lnTo>
                  <a:pt x="2459" y="3007"/>
                </a:lnTo>
                <a:lnTo>
                  <a:pt x="2417" y="3031"/>
                </a:lnTo>
                <a:lnTo>
                  <a:pt x="2399" y="3076"/>
                </a:lnTo>
                <a:lnTo>
                  <a:pt x="2414" y="3127"/>
                </a:lnTo>
                <a:lnTo>
                  <a:pt x="2459" y="3147"/>
                </a:lnTo>
                <a:lnTo>
                  <a:pt x="2761" y="3147"/>
                </a:lnTo>
                <a:lnTo>
                  <a:pt x="3063" y="3147"/>
                </a:lnTo>
                <a:lnTo>
                  <a:pt x="3110" y="3127"/>
                </a:lnTo>
                <a:lnTo>
                  <a:pt x="3125" y="3076"/>
                </a:lnTo>
                <a:lnTo>
                  <a:pt x="3107" y="3031"/>
                </a:lnTo>
                <a:lnTo>
                  <a:pt x="3063" y="3007"/>
                </a:lnTo>
                <a:lnTo>
                  <a:pt x="3076" y="3001"/>
                </a:lnTo>
                <a:lnTo>
                  <a:pt x="3110" y="2999"/>
                </a:lnTo>
                <a:lnTo>
                  <a:pt x="3148" y="3003"/>
                </a:lnTo>
                <a:lnTo>
                  <a:pt x="3232" y="3007"/>
                </a:lnTo>
                <a:lnTo>
                  <a:pt x="3354" y="3011"/>
                </a:lnTo>
                <a:lnTo>
                  <a:pt x="3510" y="3019"/>
                </a:lnTo>
                <a:lnTo>
                  <a:pt x="3696" y="3023"/>
                </a:lnTo>
                <a:lnTo>
                  <a:pt x="3896" y="3031"/>
                </a:lnTo>
                <a:lnTo>
                  <a:pt x="4107" y="3037"/>
                </a:lnTo>
                <a:lnTo>
                  <a:pt x="4331" y="3042"/>
                </a:lnTo>
                <a:lnTo>
                  <a:pt x="4551" y="3048"/>
                </a:lnTo>
                <a:lnTo>
                  <a:pt x="4764" y="3056"/>
                </a:lnTo>
                <a:lnTo>
                  <a:pt x="4962" y="3058"/>
                </a:lnTo>
                <a:lnTo>
                  <a:pt x="5138" y="3064"/>
                </a:lnTo>
                <a:lnTo>
                  <a:pt x="5287" y="3068"/>
                </a:lnTo>
                <a:lnTo>
                  <a:pt x="5402" y="3070"/>
                </a:lnTo>
                <a:lnTo>
                  <a:pt x="5477" y="3074"/>
                </a:lnTo>
                <a:lnTo>
                  <a:pt x="5502" y="3076"/>
                </a:lnTo>
                <a:lnTo>
                  <a:pt x="5520" y="3046"/>
                </a:lnTo>
                <a:lnTo>
                  <a:pt x="4322" y="276"/>
                </a:lnTo>
                <a:lnTo>
                  <a:pt x="4302" y="264"/>
                </a:lnTo>
                <a:lnTo>
                  <a:pt x="4283" y="264"/>
                </a:lnTo>
                <a:lnTo>
                  <a:pt x="4200" y="142"/>
                </a:lnTo>
                <a:lnTo>
                  <a:pt x="4192" y="136"/>
                </a:lnTo>
                <a:lnTo>
                  <a:pt x="4102" y="112"/>
                </a:lnTo>
                <a:lnTo>
                  <a:pt x="4009" y="89"/>
                </a:lnTo>
                <a:lnTo>
                  <a:pt x="3918" y="71"/>
                </a:lnTo>
                <a:lnTo>
                  <a:pt x="3823" y="49"/>
                </a:lnTo>
                <a:lnTo>
                  <a:pt x="3729" y="30"/>
                </a:lnTo>
                <a:lnTo>
                  <a:pt x="3636" y="18"/>
                </a:lnTo>
                <a:lnTo>
                  <a:pt x="3540" y="6"/>
                </a:lnTo>
                <a:lnTo>
                  <a:pt x="3449" y="0"/>
                </a:lnTo>
                <a:lnTo>
                  <a:pt x="3358" y="2"/>
                </a:lnTo>
                <a:lnTo>
                  <a:pt x="3263" y="12"/>
                </a:lnTo>
                <a:lnTo>
                  <a:pt x="3176" y="30"/>
                </a:lnTo>
                <a:lnTo>
                  <a:pt x="3083" y="59"/>
                </a:lnTo>
                <a:lnTo>
                  <a:pt x="2994" y="95"/>
                </a:lnTo>
                <a:lnTo>
                  <a:pt x="2910" y="146"/>
                </a:lnTo>
                <a:lnTo>
                  <a:pt x="2825" y="211"/>
                </a:lnTo>
                <a:lnTo>
                  <a:pt x="2759" y="274"/>
                </a:lnTo>
                <a:lnTo>
                  <a:pt x="2761" y="326"/>
                </a:lnTo>
                <a:close/>
              </a:path>
            </a:pathLst>
          </a:custGeom>
          <a:solidFill>
            <a:srgbClr val="ff0000"/>
          </a:solidFill>
          <a:ln w="3240">
            <a:solidFill>
              <a:srgbClr val="80010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0" name="Picture 9" descr=""/>
          <p:cNvPicPr/>
          <p:nvPr/>
        </p:nvPicPr>
        <p:blipFill>
          <a:blip r:embed="rId1"/>
          <a:stretch/>
        </p:blipFill>
        <p:spPr>
          <a:xfrm>
            <a:off x="6659640" y="4365720"/>
            <a:ext cx="1747800" cy="2133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0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78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3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1" name="" descr=""/>
          <p:cNvPicPr/>
          <p:nvPr/>
        </p:nvPicPr>
        <p:blipFill>
          <a:blip r:embed="rId1"/>
          <a:stretch/>
        </p:blipFill>
        <p:spPr>
          <a:xfrm>
            <a:off x="179280" y="333360"/>
            <a:ext cx="3889440" cy="2916360"/>
          </a:xfrm>
          <a:prstGeom prst="rect">
            <a:avLst/>
          </a:prstGeom>
          <a:ln w="0">
            <a:noFill/>
          </a:ln>
        </p:spPr>
      </p:pic>
      <p:pic>
        <p:nvPicPr>
          <p:cNvPr id="472" name="" descr=""/>
          <p:cNvPicPr/>
          <p:nvPr/>
        </p:nvPicPr>
        <p:blipFill>
          <a:blip r:embed="rId2"/>
          <a:stretch/>
        </p:blipFill>
        <p:spPr>
          <a:xfrm>
            <a:off x="4356000" y="333360"/>
            <a:ext cx="4246560" cy="2951280"/>
          </a:xfrm>
          <a:prstGeom prst="rect">
            <a:avLst/>
          </a:prstGeom>
          <a:ln w="0">
            <a:noFill/>
          </a:ln>
        </p:spPr>
      </p:pic>
      <p:pic>
        <p:nvPicPr>
          <p:cNvPr id="473" name="" descr=""/>
          <p:cNvPicPr/>
          <p:nvPr/>
        </p:nvPicPr>
        <p:blipFill>
          <a:blip r:embed="rId3"/>
          <a:stretch/>
        </p:blipFill>
        <p:spPr>
          <a:xfrm>
            <a:off x="2050920" y="3357720"/>
            <a:ext cx="4321440" cy="32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Text Box 1"/>
          <p:cNvSpPr/>
          <p:nvPr/>
        </p:nvSpPr>
        <p:spPr>
          <a:xfrm>
            <a:off x="647640" y="1152360"/>
            <a:ext cx="6120000" cy="39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итература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DejaVu Sans Condensed"/>
              </a:rPr>
              <a:t>1. </a:t>
            </a:r>
            <a:r>
              <a:rPr b="0" lang="ru-RU" sz="2800" spc="-1" strike="noStrike" u="sng">
                <a:solidFill>
                  <a:srgbClr val="ccccff"/>
                </a:solidFill>
                <a:uFillTx/>
                <a:latin typeface="Times New Roman"/>
                <a:ea typeface="DejaVu Sans Condensed"/>
                <a:hlinkClick r:id="rId1"/>
              </a:rPr>
              <a:t>http://www.baby.ru/community/view/30500/forum/post/36932489/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ru-RU" sz="28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http://nattik.ru/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ru-RU" sz="28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http://mars36.ru/archives/41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990720"/>
          </a:xfrm>
          <a:prstGeom prst="rect">
            <a:avLst/>
          </a:prstGeom>
          <a:ln w="0">
            <a:noFill/>
          </a:ln>
        </p:spPr>
      </p:pic>
      <p:sp>
        <p:nvSpPr>
          <p:cNvPr id="367" name="Rectangle 3"/>
          <p:cNvSpPr/>
          <p:nvPr/>
        </p:nvSpPr>
        <p:spPr>
          <a:xfrm>
            <a:off x="1374840" y="1143000"/>
            <a:ext cx="515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cc00cc"/>
                </a:solidFill>
                <a:latin typeface="Arial"/>
              </a:rPr>
              <a:t>«Дисциплина на улице – залог безопасности!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8" name="Picture 4" descr=""/>
          <p:cNvPicPr/>
          <p:nvPr/>
        </p:nvPicPr>
        <p:blipFill>
          <a:blip r:embed="rId3"/>
          <a:stretch/>
        </p:blipFill>
        <p:spPr>
          <a:xfrm>
            <a:off x="6357960" y="3857760"/>
            <a:ext cx="1608120" cy="226836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5" descr=""/>
          <p:cNvPicPr/>
          <p:nvPr/>
        </p:nvPicPr>
        <p:blipFill>
          <a:blip r:embed="rId4"/>
          <a:stretch/>
        </p:blipFill>
        <p:spPr>
          <a:xfrm>
            <a:off x="1571760" y="4214880"/>
            <a:ext cx="1152360" cy="1871640"/>
          </a:xfrm>
          <a:prstGeom prst="rect">
            <a:avLst/>
          </a:prstGeom>
          <a:ln w="0">
            <a:noFill/>
          </a:ln>
        </p:spPr>
      </p:pic>
      <p:sp>
        <p:nvSpPr>
          <p:cNvPr id="370" name="Text Box 6"/>
          <p:cNvSpPr/>
          <p:nvPr/>
        </p:nvSpPr>
        <p:spPr>
          <a:xfrm>
            <a:off x="1357200" y="2000160"/>
            <a:ext cx="6715080" cy="1785960"/>
          </a:xfrm>
          <a:prstGeom prst="rect">
            <a:avLst/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entury Schoolbook"/>
              </a:rPr>
              <a:t>ОСТОРОЖНО, УЛИЦА!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1" name="Picture 7" descr=""/>
          <p:cNvPicPr/>
          <p:nvPr/>
        </p:nvPicPr>
        <p:blipFill>
          <a:blip r:embed="rId5"/>
          <a:stretch/>
        </p:blipFill>
        <p:spPr>
          <a:xfrm>
            <a:off x="3643200" y="4071960"/>
            <a:ext cx="2000520" cy="2000160"/>
          </a:xfrm>
          <a:prstGeom prst="rect">
            <a:avLst/>
          </a:prstGeom>
          <a:ln w="9360">
            <a:solidFill>
              <a:srgbClr val="fe8637"/>
            </a:solidFill>
            <a:miter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1.0000054168701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71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71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6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Text Box 1"/>
          <p:cNvSpPr/>
          <p:nvPr/>
        </p:nvSpPr>
        <p:spPr>
          <a:xfrm>
            <a:off x="2143080" y="-106200"/>
            <a:ext cx="6172200" cy="1555560"/>
          </a:xfrm>
          <a:prstGeom prst="rect">
            <a:avLst/>
          </a:prstGeom>
          <a:solidFill>
            <a:srgbClr val="e75c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fff39d"/>
                </a:solidFill>
                <a:latin typeface="Century Schoolbook"/>
              </a:rPr>
              <a:t>ДОРОЖНЫЕ ЗНАКИ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3" name="Picture 2" descr=""/>
          <p:cNvPicPr/>
          <p:nvPr/>
        </p:nvPicPr>
        <p:blipFill>
          <a:blip r:embed="rId1"/>
          <a:stretch/>
        </p:blipFill>
        <p:spPr>
          <a:xfrm>
            <a:off x="3714840" y="1928880"/>
            <a:ext cx="3071880" cy="409572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3" descr=""/>
          <p:cNvPicPr/>
          <p:nvPr/>
        </p:nvPicPr>
        <p:blipFill>
          <a:blip r:embed="rId2"/>
          <a:stretch/>
        </p:blipFill>
        <p:spPr>
          <a:xfrm>
            <a:off x="3714840" y="2000160"/>
            <a:ext cx="3000240" cy="400068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4" descr=""/>
          <p:cNvPicPr/>
          <p:nvPr/>
        </p:nvPicPr>
        <p:blipFill>
          <a:blip r:embed="rId3"/>
          <a:stretch/>
        </p:blipFill>
        <p:spPr>
          <a:xfrm>
            <a:off x="3786120" y="2000160"/>
            <a:ext cx="2927520" cy="390384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5" descr=""/>
          <p:cNvPicPr/>
          <p:nvPr/>
        </p:nvPicPr>
        <p:blipFill>
          <a:blip r:embed="rId4"/>
          <a:stretch/>
        </p:blipFill>
        <p:spPr>
          <a:xfrm>
            <a:off x="3714840" y="2000160"/>
            <a:ext cx="3000240" cy="400068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6" descr=""/>
          <p:cNvPicPr/>
          <p:nvPr/>
        </p:nvPicPr>
        <p:blipFill>
          <a:blip r:embed="rId5"/>
          <a:stretch/>
        </p:blipFill>
        <p:spPr>
          <a:xfrm>
            <a:off x="3786120" y="2000160"/>
            <a:ext cx="2928960" cy="390528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7" descr=""/>
          <p:cNvPicPr/>
          <p:nvPr/>
        </p:nvPicPr>
        <p:blipFill>
          <a:blip r:embed="rId6"/>
          <a:stretch/>
        </p:blipFill>
        <p:spPr>
          <a:xfrm>
            <a:off x="3714840" y="1928880"/>
            <a:ext cx="3000240" cy="400032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8" descr=""/>
          <p:cNvPicPr/>
          <p:nvPr/>
        </p:nvPicPr>
        <p:blipFill>
          <a:blip r:embed="rId7"/>
          <a:stretch/>
        </p:blipFill>
        <p:spPr>
          <a:xfrm>
            <a:off x="3714840" y="2000160"/>
            <a:ext cx="3071880" cy="409572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9" descr=""/>
          <p:cNvPicPr/>
          <p:nvPr/>
        </p:nvPicPr>
        <p:blipFill>
          <a:blip r:embed="rId8"/>
          <a:stretch/>
        </p:blipFill>
        <p:spPr>
          <a:xfrm>
            <a:off x="3714840" y="2000160"/>
            <a:ext cx="3071880" cy="409572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10" descr=""/>
          <p:cNvPicPr/>
          <p:nvPr/>
        </p:nvPicPr>
        <p:blipFill>
          <a:blip r:embed="rId9"/>
          <a:stretch/>
        </p:blipFill>
        <p:spPr>
          <a:xfrm>
            <a:off x="3786120" y="2000160"/>
            <a:ext cx="3000600" cy="400068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11" descr=""/>
          <p:cNvPicPr/>
          <p:nvPr/>
        </p:nvPicPr>
        <p:blipFill>
          <a:blip r:embed="rId10"/>
          <a:stretch/>
        </p:blipFill>
        <p:spPr>
          <a:xfrm>
            <a:off x="3714840" y="2000160"/>
            <a:ext cx="3000240" cy="400068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12" descr=""/>
          <p:cNvPicPr/>
          <p:nvPr/>
        </p:nvPicPr>
        <p:blipFill>
          <a:blip r:embed="rId11"/>
          <a:stretch/>
        </p:blipFill>
        <p:spPr>
          <a:xfrm>
            <a:off x="3714840" y="2071800"/>
            <a:ext cx="3000240" cy="4000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Text Box 1"/>
          <p:cNvSpPr/>
          <p:nvPr/>
        </p:nvSpPr>
        <p:spPr>
          <a:xfrm>
            <a:off x="2357280" y="500040"/>
            <a:ext cx="6172200" cy="611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6600" indent="-3366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Font typeface="Century Schoolbook"/>
              <a:buAutoNum type="arabicPeriod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b0f0"/>
                </a:solidFill>
                <a:latin typeface="Century Schoolbook"/>
              </a:rPr>
              <a:t>Предупреждающи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Font typeface="Century Schoolbook"/>
              <a:buAutoNum type="arabicPeriod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b0f0"/>
                </a:solidFill>
                <a:latin typeface="Century Schoolbook"/>
              </a:rPr>
              <a:t>Запрещающи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Font typeface="Century Schoolbook"/>
              <a:buAutoNum type="arabicPeriod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b0f0"/>
                </a:solidFill>
                <a:latin typeface="Century Schoolbook"/>
              </a:rPr>
              <a:t>Предписывающи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Font typeface="Century Schoolbook"/>
              <a:buAutoNum type="arabicPeriod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b0f0"/>
                </a:solidFill>
                <a:latin typeface="Century Schoolbook"/>
              </a:rPr>
              <a:t>Информационно-указательны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Font typeface="Century Schoolbook"/>
              <a:buAutoNum type="arabicPeriod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b0f0"/>
                </a:solidFill>
                <a:latin typeface="Century Schoolbook"/>
              </a:rPr>
              <a:t>Приоритета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Font typeface="Century Schoolbook"/>
              <a:buAutoNum type="arabicPeriod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b0f0"/>
                </a:solidFill>
                <a:latin typeface="Century Schoolbook"/>
              </a:rPr>
              <a:t>Сервис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Font typeface="Century Schoolbook"/>
              <a:buAutoNum type="arabicPeriod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b0f0"/>
                </a:solidFill>
                <a:latin typeface="Century Schoolbook"/>
              </a:rPr>
              <a:t>Дополнительной информаци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5" name="Picture 2" descr=""/>
          <p:cNvPicPr/>
          <p:nvPr/>
        </p:nvPicPr>
        <p:blipFill>
          <a:blip r:embed="rId1"/>
          <a:stretch/>
        </p:blipFill>
        <p:spPr>
          <a:xfrm>
            <a:off x="2357280" y="203040"/>
            <a:ext cx="5214960" cy="6654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0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2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5" dur="2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3" dur="1000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0" dur="1000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7" dur="1000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4" dur="1000"/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1" dur="1000"/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8" dur="1000"/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5" dur="1000"/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Text Box 1"/>
          <p:cNvSpPr/>
          <p:nvPr/>
        </p:nvSpPr>
        <p:spPr>
          <a:xfrm>
            <a:off x="457200" y="301680"/>
            <a:ext cx="82296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ЭТО СВЕТОФОР – ОН РЕГУЛИРУЕТ ДВИЖЕНИЕ ТРАНСПОРТА И ПЕШЕХОДОВ НА ДОРОГ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7" name="Group 2"/>
          <p:cNvGrpSpPr/>
          <p:nvPr/>
        </p:nvGrpSpPr>
        <p:grpSpPr>
          <a:xfrm>
            <a:off x="3962520" y="1371600"/>
            <a:ext cx="1365120" cy="5175360"/>
            <a:chOff x="3962520" y="1371600"/>
            <a:chExt cx="1365120" cy="5175360"/>
          </a:xfrm>
        </p:grpSpPr>
        <p:grpSp>
          <p:nvGrpSpPr>
            <p:cNvPr id="388" name="Group 3"/>
            <p:cNvGrpSpPr/>
            <p:nvPr/>
          </p:nvGrpSpPr>
          <p:grpSpPr>
            <a:xfrm>
              <a:off x="3962520" y="1371600"/>
              <a:ext cx="1365120" cy="3340440"/>
              <a:chOff x="3962520" y="1371600"/>
              <a:chExt cx="1365120" cy="3340440"/>
            </a:xfrm>
          </p:grpSpPr>
          <p:sp>
            <p:nvSpPr>
              <p:cNvPr id="389" name="Rectangle 4"/>
              <p:cNvSpPr/>
              <p:nvPr/>
            </p:nvSpPr>
            <p:spPr>
              <a:xfrm>
                <a:off x="3962520" y="1371600"/>
                <a:ext cx="1365120" cy="33404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Oval 5"/>
              <p:cNvSpPr/>
              <p:nvPr/>
            </p:nvSpPr>
            <p:spPr>
              <a:xfrm>
                <a:off x="4260960" y="1603080"/>
                <a:ext cx="768240" cy="69804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" name="Oval 6"/>
              <p:cNvSpPr/>
              <p:nvPr/>
            </p:nvSpPr>
            <p:spPr>
              <a:xfrm>
                <a:off x="4260960" y="2544120"/>
                <a:ext cx="768240" cy="69804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" name="Oval 7"/>
              <p:cNvSpPr/>
              <p:nvPr/>
            </p:nvSpPr>
            <p:spPr>
              <a:xfrm>
                <a:off x="4260960" y="3542760"/>
                <a:ext cx="768240" cy="698040"/>
              </a:xfrm>
              <a:prstGeom prst="ellipse">
                <a:avLst/>
              </a:prstGeom>
              <a:solidFill>
                <a:srgbClr val="3399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93" name="Line 8"/>
            <p:cNvSpPr/>
            <p:nvPr/>
          </p:nvSpPr>
          <p:spPr>
            <a:xfrm flipH="1">
              <a:off x="4108320" y="6546960"/>
              <a:ext cx="997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Rectangle 9"/>
            <p:cNvSpPr/>
            <p:nvPr/>
          </p:nvSpPr>
          <p:spPr>
            <a:xfrm>
              <a:off x="4419720" y="4718520"/>
              <a:ext cx="450720" cy="18201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395" name="Picture 10" descr=""/>
          <p:cNvPicPr/>
          <p:nvPr/>
        </p:nvPicPr>
        <p:blipFill>
          <a:blip r:embed="rId1"/>
          <a:stretch/>
        </p:blipFill>
        <p:spPr>
          <a:xfrm>
            <a:off x="8610480" y="-533520"/>
            <a:ext cx="233640" cy="23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Text Box 1"/>
          <p:cNvSpPr/>
          <p:nvPr/>
        </p:nvSpPr>
        <p:spPr>
          <a:xfrm>
            <a:off x="304920" y="152280"/>
            <a:ext cx="853416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575f6d"/>
                </a:solidFill>
                <a:latin typeface="Century Schoolbook"/>
              </a:rPr>
              <a:t>КОГДА ГОРИТ КРАСНЫЙ СИГНАЛ СВЕТОФОРА, НАДО ОСТАНОВИТЬС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Rectangle 2"/>
          <p:cNvSpPr/>
          <p:nvPr/>
        </p:nvSpPr>
        <p:spPr>
          <a:xfrm>
            <a:off x="3886200" y="1752480"/>
            <a:ext cx="1066680" cy="28591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Oval 3"/>
          <p:cNvSpPr/>
          <p:nvPr/>
        </p:nvSpPr>
        <p:spPr>
          <a:xfrm>
            <a:off x="4118040" y="1951200"/>
            <a:ext cx="603360" cy="6015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Oval 4"/>
          <p:cNvSpPr/>
          <p:nvPr/>
        </p:nvSpPr>
        <p:spPr>
          <a:xfrm>
            <a:off x="4114800" y="3657600"/>
            <a:ext cx="603360" cy="601560"/>
          </a:xfrm>
          <a:prstGeom prst="ellipse">
            <a:avLst/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Line 5"/>
          <p:cNvSpPr/>
          <p:nvPr/>
        </p:nvSpPr>
        <p:spPr>
          <a:xfrm flipH="1">
            <a:off x="3998880" y="6172200"/>
            <a:ext cx="78264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Rectangle 6"/>
          <p:cNvSpPr/>
          <p:nvPr/>
        </p:nvSpPr>
        <p:spPr>
          <a:xfrm>
            <a:off x="4241880" y="4611600"/>
            <a:ext cx="355680" cy="15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Oval 7"/>
          <p:cNvSpPr/>
          <p:nvPr/>
        </p:nvSpPr>
        <p:spPr>
          <a:xfrm>
            <a:off x="4114800" y="2819520"/>
            <a:ext cx="603360" cy="601560"/>
          </a:xfrm>
          <a:prstGeom prst="ellipse">
            <a:avLst/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3" name="Picture 8" descr=""/>
          <p:cNvPicPr/>
          <p:nvPr/>
        </p:nvPicPr>
        <p:blipFill>
          <a:blip r:embed="rId1"/>
          <a:stretch/>
        </p:blipFill>
        <p:spPr>
          <a:xfrm>
            <a:off x="8910720" y="-76212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0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1" dur="2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10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Text Box 1"/>
          <p:cNvSpPr/>
          <p:nvPr/>
        </p:nvSpPr>
        <p:spPr>
          <a:xfrm>
            <a:off x="457200" y="274680"/>
            <a:ext cx="822960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575f6d"/>
                </a:solidFill>
                <a:latin typeface="Century Schoolbook"/>
              </a:rPr>
              <a:t>ЖЕЛТЫЙ СИГНАЛ СВЕТОФОРА ГОВОРИТ НАМ О ТОМ, ЧТО НУЖНО ПРИГОТОВИТЬС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Rectangle 2"/>
          <p:cNvSpPr/>
          <p:nvPr/>
        </p:nvSpPr>
        <p:spPr>
          <a:xfrm>
            <a:off x="3733920" y="1676520"/>
            <a:ext cx="1143000" cy="29080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Oval 3"/>
          <p:cNvSpPr/>
          <p:nvPr/>
        </p:nvSpPr>
        <p:spPr>
          <a:xfrm>
            <a:off x="3983040" y="1878120"/>
            <a:ext cx="644400" cy="610920"/>
          </a:xfrm>
          <a:prstGeom prst="ellipse">
            <a:avLst/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Oval 4"/>
          <p:cNvSpPr/>
          <p:nvPr/>
        </p:nvSpPr>
        <p:spPr>
          <a:xfrm>
            <a:off x="3983040" y="2693880"/>
            <a:ext cx="644400" cy="612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Oval 5"/>
          <p:cNvSpPr/>
          <p:nvPr/>
        </p:nvSpPr>
        <p:spPr>
          <a:xfrm>
            <a:off x="3983040" y="3560760"/>
            <a:ext cx="644400" cy="612720"/>
          </a:xfrm>
          <a:prstGeom prst="ellipse">
            <a:avLst/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Line 6"/>
          <p:cNvSpPr/>
          <p:nvPr/>
        </p:nvSpPr>
        <p:spPr>
          <a:xfrm flipH="1">
            <a:off x="3854520" y="6172200"/>
            <a:ext cx="83808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Rectangle 7"/>
          <p:cNvSpPr/>
          <p:nvPr/>
        </p:nvSpPr>
        <p:spPr>
          <a:xfrm>
            <a:off x="4114800" y="4584600"/>
            <a:ext cx="380880" cy="1587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1" name="Picture 8" descr=""/>
          <p:cNvPicPr/>
          <p:nvPr/>
        </p:nvPicPr>
        <p:blipFill>
          <a:blip r:embed="rId1"/>
          <a:stretch/>
        </p:blipFill>
        <p:spPr>
          <a:xfrm>
            <a:off x="8910720" y="-53352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0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7" dur="2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10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Text Box 1"/>
          <p:cNvSpPr/>
          <p:nvPr/>
        </p:nvSpPr>
        <p:spPr>
          <a:xfrm>
            <a:off x="457200" y="274680"/>
            <a:ext cx="82296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575f6d"/>
                </a:solidFill>
                <a:latin typeface="Century Schoolbook"/>
              </a:rPr>
              <a:t>НА ЗЕЛЕНЫЙ СИГНАЛ СВЕТОФОРА МОЖНО ПЕРЕХОДИТЬ ДОРОГ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Rectangle 2"/>
          <p:cNvSpPr/>
          <p:nvPr/>
        </p:nvSpPr>
        <p:spPr>
          <a:xfrm>
            <a:off x="3657600" y="1447920"/>
            <a:ext cx="1143000" cy="29080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Oval 3"/>
          <p:cNvSpPr/>
          <p:nvPr/>
        </p:nvSpPr>
        <p:spPr>
          <a:xfrm>
            <a:off x="3886200" y="1676520"/>
            <a:ext cx="644400" cy="610920"/>
          </a:xfrm>
          <a:prstGeom prst="ellipse">
            <a:avLst/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Oval 4"/>
          <p:cNvSpPr/>
          <p:nvPr/>
        </p:nvSpPr>
        <p:spPr>
          <a:xfrm>
            <a:off x="3886200" y="2514600"/>
            <a:ext cx="644400" cy="612720"/>
          </a:xfrm>
          <a:prstGeom prst="ellipse">
            <a:avLst/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Oval 5"/>
          <p:cNvSpPr/>
          <p:nvPr/>
        </p:nvSpPr>
        <p:spPr>
          <a:xfrm>
            <a:off x="3886200" y="3429000"/>
            <a:ext cx="644400" cy="61272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Line 6"/>
          <p:cNvSpPr/>
          <p:nvPr/>
        </p:nvSpPr>
        <p:spPr>
          <a:xfrm flipH="1">
            <a:off x="3727440" y="5943600"/>
            <a:ext cx="83808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Rectangle 7"/>
          <p:cNvSpPr/>
          <p:nvPr/>
        </p:nvSpPr>
        <p:spPr>
          <a:xfrm>
            <a:off x="4038480" y="4343400"/>
            <a:ext cx="381240" cy="1587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9" name="Picture 8" descr=""/>
          <p:cNvPicPr/>
          <p:nvPr/>
        </p:nvPicPr>
        <p:blipFill>
          <a:blip r:embed="rId1"/>
          <a:stretch/>
        </p:blipFill>
        <p:spPr>
          <a:xfrm>
            <a:off x="8910720" y="-60948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0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3" dur="2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10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Text Box 1"/>
          <p:cNvSpPr/>
          <p:nvPr/>
        </p:nvSpPr>
        <p:spPr>
          <a:xfrm>
            <a:off x="380880" y="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entury Schoolbook"/>
              </a:rPr>
              <a:t>ПЕРЕХОДИ ДОРОГУ ТОЛЬКО НА ЗЕЛЕНЫЙ СИГНАЛ СВЕТОФОР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Rectangle 2"/>
          <p:cNvSpPr/>
          <p:nvPr/>
        </p:nvSpPr>
        <p:spPr>
          <a:xfrm>
            <a:off x="609480" y="2895480"/>
            <a:ext cx="8763120" cy="39625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Rectangle 3"/>
          <p:cNvSpPr/>
          <p:nvPr/>
        </p:nvSpPr>
        <p:spPr>
          <a:xfrm>
            <a:off x="1266840" y="2895480"/>
            <a:ext cx="730080" cy="396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Rectangle 4"/>
          <p:cNvSpPr/>
          <p:nvPr/>
        </p:nvSpPr>
        <p:spPr>
          <a:xfrm>
            <a:off x="2873520" y="2895480"/>
            <a:ext cx="730080" cy="396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Rectangle 5"/>
          <p:cNvSpPr/>
          <p:nvPr/>
        </p:nvSpPr>
        <p:spPr>
          <a:xfrm>
            <a:off x="4552920" y="2895480"/>
            <a:ext cx="730440" cy="396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Rectangle 6"/>
          <p:cNvSpPr/>
          <p:nvPr/>
        </p:nvSpPr>
        <p:spPr>
          <a:xfrm>
            <a:off x="6232680" y="2895480"/>
            <a:ext cx="730080" cy="396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Rectangle 7"/>
          <p:cNvSpPr/>
          <p:nvPr/>
        </p:nvSpPr>
        <p:spPr>
          <a:xfrm>
            <a:off x="7912080" y="2895480"/>
            <a:ext cx="730440" cy="396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Line 8"/>
          <p:cNvSpPr/>
          <p:nvPr/>
        </p:nvSpPr>
        <p:spPr>
          <a:xfrm flipH="1">
            <a:off x="4260600" y="0"/>
            <a:ext cx="88920" cy="6858000"/>
          </a:xfrm>
          <a:prstGeom prst="line">
            <a:avLst/>
          </a:prstGeom>
          <a:ln w="5724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Rectangle 9"/>
          <p:cNvSpPr/>
          <p:nvPr/>
        </p:nvSpPr>
        <p:spPr>
          <a:xfrm>
            <a:off x="0" y="0"/>
            <a:ext cx="457200" cy="7010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Rectangle 10"/>
          <p:cNvSpPr/>
          <p:nvPr/>
        </p:nvSpPr>
        <p:spPr>
          <a:xfrm>
            <a:off x="8839080" y="0"/>
            <a:ext cx="533520" cy="68580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0" name="Group 11"/>
          <p:cNvGrpSpPr/>
          <p:nvPr/>
        </p:nvGrpSpPr>
        <p:grpSpPr>
          <a:xfrm>
            <a:off x="7924680" y="152280"/>
            <a:ext cx="679680" cy="2660760"/>
            <a:chOff x="7924680" y="152280"/>
            <a:chExt cx="679680" cy="2660760"/>
          </a:xfrm>
        </p:grpSpPr>
        <p:grpSp>
          <p:nvGrpSpPr>
            <p:cNvPr id="431" name="Group 12"/>
            <p:cNvGrpSpPr/>
            <p:nvPr/>
          </p:nvGrpSpPr>
          <p:grpSpPr>
            <a:xfrm>
              <a:off x="7924680" y="152280"/>
              <a:ext cx="679680" cy="2660760"/>
              <a:chOff x="7924680" y="152280"/>
              <a:chExt cx="679680" cy="2660760"/>
            </a:xfrm>
          </p:grpSpPr>
          <p:grpSp>
            <p:nvGrpSpPr>
              <p:cNvPr id="432" name="Group 13"/>
              <p:cNvGrpSpPr/>
              <p:nvPr/>
            </p:nvGrpSpPr>
            <p:grpSpPr>
              <a:xfrm>
                <a:off x="7924680" y="152280"/>
                <a:ext cx="679680" cy="1713600"/>
                <a:chOff x="7924680" y="152280"/>
                <a:chExt cx="679680" cy="1713600"/>
              </a:xfrm>
            </p:grpSpPr>
            <p:sp>
              <p:nvSpPr>
                <p:cNvPr id="433" name="Rectangle 14"/>
                <p:cNvSpPr/>
                <p:nvPr/>
              </p:nvSpPr>
              <p:spPr>
                <a:xfrm>
                  <a:off x="7924680" y="152280"/>
                  <a:ext cx="679680" cy="17136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4" name="Oval 15"/>
                <p:cNvSpPr/>
                <p:nvPr/>
              </p:nvSpPr>
              <p:spPr>
                <a:xfrm>
                  <a:off x="8074080" y="271080"/>
                  <a:ext cx="380880" cy="35676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5" name="Oval 16"/>
                <p:cNvSpPr/>
                <p:nvPr/>
              </p:nvSpPr>
              <p:spPr>
                <a:xfrm>
                  <a:off x="8074080" y="754920"/>
                  <a:ext cx="380880" cy="35676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6" name="Oval 17"/>
                <p:cNvSpPr/>
                <p:nvPr/>
              </p:nvSpPr>
              <p:spPr>
                <a:xfrm>
                  <a:off x="8074080" y="1267560"/>
                  <a:ext cx="380880" cy="357120"/>
                </a:xfrm>
                <a:prstGeom prst="ellipse">
                  <a:avLst/>
                </a:prstGeom>
                <a:solidFill>
                  <a:srgbClr val="3399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437" name="Line 18"/>
              <p:cNvSpPr/>
              <p:nvPr/>
            </p:nvSpPr>
            <p:spPr>
              <a:xfrm flipH="1">
                <a:off x="7994520" y="2813040"/>
                <a:ext cx="5018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8" name="Rectangle 19"/>
              <p:cNvSpPr/>
              <p:nvPr/>
            </p:nvSpPr>
            <p:spPr>
              <a:xfrm>
                <a:off x="8153280" y="1872000"/>
                <a:ext cx="222480" cy="931320"/>
              </a:xfrm>
              <a:prstGeom prst="rec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39" name="Oval 20"/>
            <p:cNvSpPr/>
            <p:nvPr/>
          </p:nvSpPr>
          <p:spPr>
            <a:xfrm>
              <a:off x="8061480" y="271440"/>
              <a:ext cx="404640" cy="349200"/>
            </a:xfrm>
            <a:prstGeom prst="ellipse">
              <a:avLst/>
            </a:prstGeom>
            <a:solidFill>
              <a:srgbClr val="fe863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Oval 21"/>
            <p:cNvSpPr/>
            <p:nvPr/>
          </p:nvSpPr>
          <p:spPr>
            <a:xfrm>
              <a:off x="8061480" y="744480"/>
              <a:ext cx="404640" cy="349200"/>
            </a:xfrm>
            <a:prstGeom prst="ellipse">
              <a:avLst/>
            </a:prstGeom>
            <a:solidFill>
              <a:srgbClr val="fe863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41" name="Rectangle 22"/>
          <p:cNvSpPr/>
          <p:nvPr/>
        </p:nvSpPr>
        <p:spPr>
          <a:xfrm>
            <a:off x="457200" y="0"/>
            <a:ext cx="15228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Rectangle 23"/>
          <p:cNvSpPr/>
          <p:nvPr/>
        </p:nvSpPr>
        <p:spPr>
          <a:xfrm>
            <a:off x="8839080" y="0"/>
            <a:ext cx="15264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3" name="Picture 24" descr=""/>
          <p:cNvPicPr/>
          <p:nvPr/>
        </p:nvPicPr>
        <p:blipFill>
          <a:blip r:embed="rId1"/>
          <a:stretch/>
        </p:blipFill>
        <p:spPr>
          <a:xfrm>
            <a:off x="609480" y="533520"/>
            <a:ext cx="876600" cy="179064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25" descr=""/>
          <p:cNvPicPr/>
          <p:nvPr/>
        </p:nvPicPr>
        <p:blipFill>
          <a:blip r:embed="rId2"/>
          <a:stretch/>
        </p:blipFill>
        <p:spPr>
          <a:xfrm>
            <a:off x="8686800" y="-233280"/>
            <a:ext cx="233280" cy="233280"/>
          </a:xfrm>
          <a:prstGeom prst="rect">
            <a:avLst/>
          </a:prstGeom>
          <a:ln w="0">
            <a:noFill/>
          </a:ln>
        </p:spPr>
      </p:pic>
      <p:grpSp>
        <p:nvGrpSpPr>
          <p:cNvPr id="445" name="Group 26"/>
          <p:cNvGrpSpPr/>
          <p:nvPr/>
        </p:nvGrpSpPr>
        <p:grpSpPr>
          <a:xfrm>
            <a:off x="7797600" y="2689920"/>
            <a:ext cx="1318320" cy="3170160"/>
            <a:chOff x="7797600" y="2689920"/>
            <a:chExt cx="1318320" cy="3170160"/>
          </a:xfrm>
        </p:grpSpPr>
        <p:sp>
          <p:nvSpPr>
            <p:cNvPr id="446" name="AutoShape 27"/>
            <p:cNvSpPr/>
            <p:nvPr/>
          </p:nvSpPr>
          <p:spPr>
            <a:xfrm rot="480000">
              <a:off x="7860960" y="2768760"/>
              <a:ext cx="1197000" cy="912960"/>
            </a:xfrm>
            <a:prstGeom prst="irregularSeal2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47" name="Group 28"/>
            <p:cNvGrpSpPr/>
            <p:nvPr/>
          </p:nvGrpSpPr>
          <p:grpSpPr>
            <a:xfrm>
              <a:off x="7797600" y="3103560"/>
              <a:ext cx="1152000" cy="2756520"/>
              <a:chOff x="7797600" y="3103560"/>
              <a:chExt cx="1152000" cy="2756520"/>
            </a:xfrm>
          </p:grpSpPr>
          <p:grpSp>
            <p:nvGrpSpPr>
              <p:cNvPr id="448" name="Group 29"/>
              <p:cNvGrpSpPr/>
              <p:nvPr/>
            </p:nvGrpSpPr>
            <p:grpSpPr>
              <a:xfrm>
                <a:off x="7797600" y="3103560"/>
                <a:ext cx="1096200" cy="2756520"/>
                <a:chOff x="7797600" y="3103560"/>
                <a:chExt cx="1096200" cy="2756520"/>
              </a:xfrm>
            </p:grpSpPr>
            <p:sp>
              <p:nvSpPr>
                <p:cNvPr id="449" name="Oval 30"/>
                <p:cNvSpPr/>
                <p:nvPr/>
              </p:nvSpPr>
              <p:spPr>
                <a:xfrm>
                  <a:off x="8115480" y="3103560"/>
                  <a:ext cx="522360" cy="432720"/>
                </a:xfrm>
                <a:prstGeom prst="ellipse">
                  <a:avLst/>
                </a:prstGeom>
                <a:solidFill>
                  <a:srgbClr val="3333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0" name="Rectangle 31"/>
                <p:cNvSpPr/>
                <p:nvPr/>
              </p:nvSpPr>
              <p:spPr>
                <a:xfrm>
                  <a:off x="8247960" y="3604680"/>
                  <a:ext cx="256680" cy="620280"/>
                </a:xfrm>
                <a:prstGeom prst="rect">
                  <a:avLst/>
                </a:prstGeom>
                <a:solidFill>
                  <a:srgbClr val="000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1" name="Rectangle 32"/>
                <p:cNvSpPr/>
                <p:nvPr/>
              </p:nvSpPr>
              <p:spPr>
                <a:xfrm rot="19920000">
                  <a:off x="7791120" y="3749760"/>
                  <a:ext cx="587880" cy="120240"/>
                </a:xfrm>
                <a:prstGeom prst="rect">
                  <a:avLst/>
                </a:prstGeom>
                <a:solidFill>
                  <a:srgbClr val="000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2" name="Rectangle 33"/>
                <p:cNvSpPr/>
                <p:nvPr/>
              </p:nvSpPr>
              <p:spPr>
                <a:xfrm rot="2040000">
                  <a:off x="8384040" y="3724920"/>
                  <a:ext cx="520560" cy="120240"/>
                </a:xfrm>
                <a:prstGeom prst="rect">
                  <a:avLst/>
                </a:prstGeom>
                <a:solidFill>
                  <a:srgbClr val="3333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3" name="AutoShape 34"/>
                <p:cNvSpPr/>
                <p:nvPr/>
              </p:nvSpPr>
              <p:spPr>
                <a:xfrm>
                  <a:off x="8051760" y="4170960"/>
                  <a:ext cx="653040" cy="1689120"/>
                </a:xfrm>
                <a:custGeom>
                  <a:avLst/>
                  <a:gdLst>
                    <a:gd name="textAreaLeft" fmla="*/ 0 w 653040"/>
                    <a:gd name="textAreaRight" fmla="*/ 653400 w 653040"/>
                    <a:gd name="textAreaTop" fmla="*/ 0 h 1689120"/>
                    <a:gd name="textAreaBottom" fmla="*/ 605160 h 16891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4365" y="10817"/>
                      </a:moveTo>
                      <a:cubicBezTo>
                        <a:pt x="4365" y="10811"/>
                        <a:pt x="4365" y="10805"/>
                        <a:pt x="4365" y="10800"/>
                      </a:cubicBezTo>
                      <a:cubicBezTo>
                        <a:pt x="4365" y="7246"/>
                        <a:pt x="7246" y="4365"/>
                        <a:pt x="10800" y="4365"/>
                      </a:cubicBezTo>
                      <a:cubicBezTo>
                        <a:pt x="14353" y="4365"/>
                        <a:pt x="17235" y="7246"/>
                        <a:pt x="17235" y="10800"/>
                      </a:cubicBezTo>
                      <a:cubicBezTo>
                        <a:pt x="17235" y="10805"/>
                        <a:pt x="17234" y="10811"/>
                        <a:pt x="17234" y="10817"/>
                      </a:cubicBezTo>
                      <a:lnTo>
                        <a:pt x="21599" y="10828"/>
                      </a:lnTo>
                      <a:cubicBezTo>
                        <a:pt x="21599" y="10819"/>
                        <a:pt x="21600" y="10809"/>
                        <a:pt x="21600" y="10800"/>
                      </a:cubicBezTo>
                      <a:cubicBezTo>
                        <a:pt x="21600" y="4835"/>
                        <a:pt x="16764" y="0"/>
                        <a:pt x="10800" y="0"/>
                      </a:cubicBezTo>
                      <a:cubicBezTo>
                        <a:pt x="4835" y="0"/>
                        <a:pt x="0" y="4835"/>
                        <a:pt x="0" y="10800"/>
                      </a:cubicBezTo>
                      <a:cubicBezTo>
                        <a:pt x="-1" y="10809"/>
                        <a:pt x="0" y="10819"/>
                        <a:pt x="0" y="10828"/>
                      </a:cubicBezTo>
                      <a:lnTo>
                        <a:pt x="4365" y="10817"/>
                      </a:lnTo>
                      <a:close/>
                    </a:path>
                  </a:pathLst>
                </a:custGeom>
                <a:solidFill>
                  <a:srgbClr val="000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4" name="Oval 35"/>
                <p:cNvSpPr/>
                <p:nvPr/>
              </p:nvSpPr>
              <p:spPr>
                <a:xfrm>
                  <a:off x="8247960" y="3228840"/>
                  <a:ext cx="59040" cy="55080"/>
                </a:xfrm>
                <a:prstGeom prst="ellipse">
                  <a:avLst/>
                </a:prstGeom>
                <a:solidFill>
                  <a:srgbClr val="fe8637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5" name="Oval 36"/>
                <p:cNvSpPr/>
                <p:nvPr/>
              </p:nvSpPr>
              <p:spPr>
                <a:xfrm>
                  <a:off x="8446320" y="3228840"/>
                  <a:ext cx="58680" cy="55080"/>
                </a:xfrm>
                <a:prstGeom prst="ellipse">
                  <a:avLst/>
                </a:prstGeom>
                <a:solidFill>
                  <a:srgbClr val="fe8637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6" name="Oval 37"/>
                <p:cNvSpPr/>
                <p:nvPr/>
              </p:nvSpPr>
              <p:spPr>
                <a:xfrm>
                  <a:off x="8247960" y="3417480"/>
                  <a:ext cx="188280" cy="56880"/>
                </a:xfrm>
                <a:prstGeom prst="ellipse">
                  <a:avLst/>
                </a:prstGeom>
                <a:solidFill>
                  <a:srgbClr val="ff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480" bIns="-648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457" name="AutoShape 38"/>
              <p:cNvSpPr/>
              <p:nvPr/>
            </p:nvSpPr>
            <p:spPr>
              <a:xfrm>
                <a:off x="7860960" y="4887360"/>
                <a:ext cx="358920" cy="169200"/>
              </a:xfrm>
              <a:prstGeom prst="roundRect">
                <a:avLst>
                  <a:gd name="adj" fmla="val 50000"/>
                </a:avLst>
              </a:prstGeom>
              <a:solidFill>
                <a:srgbClr val="000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" name="AutoShape 39"/>
              <p:cNvSpPr/>
              <p:nvPr/>
            </p:nvSpPr>
            <p:spPr>
              <a:xfrm>
                <a:off x="8591040" y="4887360"/>
                <a:ext cx="358560" cy="169200"/>
              </a:xfrm>
              <a:prstGeom prst="roundRect">
                <a:avLst>
                  <a:gd name="adj" fmla="val 50000"/>
                </a:avLst>
              </a:prstGeom>
              <a:solidFill>
                <a:srgbClr val="000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0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9" dur="3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3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4T13:04:26Z</dcterms:created>
  <dc:creator>Учитель</dc:creator>
  <dc:description/>
  <dc:language>en-US</dc:language>
  <cp:lastModifiedBy>Ucer</cp:lastModifiedBy>
  <dcterms:modified xsi:type="dcterms:W3CDTF">2019-03-24T05:42:41Z</dcterms:modified>
  <cp:revision>28</cp:revision>
  <dc:subject/>
  <dc:title>Слайд 1</dc:title>
</cp:coreProperties>
</file>